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D03D-66A8-4EE2-B406-A24FD88DF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A01B-1598-4859-90B6-F93E92103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8A68-713E-4AAB-925D-8728B78BE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E13E-CDA0-40BF-AD92-47E66D706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B5FE-EC8D-4D61-B7F2-B6648D58D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1D6E-7B65-448A-8BBB-A8658A84A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04BE-73D1-4317-8FE6-AC6694DD7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7EFA-F4F8-4184-8882-6383DCD55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271B-F060-4CB8-A9A1-8954ACB93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40FD-4CF1-41CC-9BCB-3D5B4C55C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10B5-AE94-4638-9777-D4D685CAD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A79B-5928-4404-ACE0-3EC7E3B27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20AF-2B1E-446A-AA9E-B8836BAA9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A1BE-E3DD-487D-BB37-15831ED18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F442-67FE-4C0D-A841-CF755B209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05C3-13BB-4D87-8165-2E10A821F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1699-DEC0-4807-9362-4ADBE312E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4723-3002-4ED6-A5D0-A08416650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75C3-C416-4741-B0C9-B8E25BDBA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58D4-12F4-4089-AB92-8263D7FCA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8E01-F9DE-46CD-A434-D10A24A73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CE77-69AF-4098-B2D7-546E56872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DCFE-DF76-4D08-90B2-49539F29E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578B-770D-4C82-A3D3-84B90329D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BF60-824A-48E3-934D-111A5C9D1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B1F7-A997-405C-8FDA-37ABB9C0C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1940-BB2D-48B7-AAD7-165C1D8B2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7EFB-D7D5-4650-9E7E-3B4029E05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DDF9-B6D1-4C9B-8152-255BF5D83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130F-F7AA-4E71-A936-F2AE58C3B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24AB-19BF-4D19-ADEB-5D1A72EA5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98C0-CD9E-4140-8B9F-8FFB8942E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6C31-AF58-45A3-8DC1-A5D0B333D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84D1-F6B6-4A10-AF18-6D4ED6FC0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16A7-AAA1-4B89-B737-A7519ADE0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CC57-1A50-41C2-9B5B-119EAFB5D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D281-F0BC-4138-B27F-417BB531E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9824-A29F-45A2-9C9F-F50E5E9AC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A156-B87F-4EE0-A321-45AC74A0B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F18F-1AFE-42CA-8D62-ADA022D98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E764-2A41-4CEF-8617-888735A12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5370-CAB9-4992-A2F5-1A35ADC89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E976-0B18-4A8C-8907-7D39D72DE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C7D7-3E24-4C48-9EBA-3E2C4A073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7879-FF83-48F8-8A36-07118CFF5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9A0C-1CDD-416C-B464-FEABECF98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3DF5-09B3-4C20-9C66-9884B919D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8748-8A50-4118-A927-49B864C27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37C5-F526-4212-A921-3E0473B61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4D85-C2BB-427C-A7CF-7BF605A63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025B-0EF9-4172-BD25-C4D31F881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57E9-7128-4CAB-8AA1-452937699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2F98-4D86-4969-886F-37364D9CB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E531-0961-4AF6-8FF5-2184D7E30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CFAF-7832-49AF-BF53-272591205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E87E-3229-460F-B1C5-062288078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DD92-F380-4FD6-81A9-F68A40626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DC75-EFDF-45C6-911B-AFA74642C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AD16-F95E-48EC-A301-DAE7E1293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BF31-EFBB-450A-B0BA-E31518A34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C4AB-EFE2-456D-B12C-2A8F6A39B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7C88-F1E7-4539-AEC0-1E1857641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999C-355C-45F2-9A2C-E2335B8B5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EBAF-09EE-4573-A0D6-8A3EA5D8F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831E-1A22-4898-B72D-C1C4A7B5B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5776-7F4C-47EF-AF9A-F19AC644D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2DBA-68AB-4F5F-9008-0ED02211E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DE56-9DDC-4221-8BDB-BB41B7D98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2338-339F-4F30-932E-2076E550A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67FB-5521-4A44-AACA-81262829F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B983-B875-414D-91D5-83AA08F4C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2084-48A3-4962-A9CD-41CAABC71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A795-1452-4EA0-A798-0C188B869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0EE2-1F41-4322-955B-EDFD4ECF9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91F4-1D04-46D7-AD5A-6BA9D48B0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2725-8C42-4D42-A188-6FA6F1958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7185-268E-42E2-AE23-B715B2DCF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BF52-EDE6-4EDC-B4C1-C5AF0175E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DCA6-0CFD-4CE6-960F-3EDBFF13A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95F0-320E-4534-856B-DA5541DD5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FD93-D025-4823-808B-ED12110E5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D788-2910-4013-8465-B43B27DBA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6C49-180A-4AFA-AFFD-0DA8A8B06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F8D8-7112-4471-94DA-BB7D37CED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4CD4-242C-4005-81B4-E13A634FB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9D47-9B9A-4DBE-8076-CF3525365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0133-7FA8-49F6-A4DE-A2156D6C0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91E5-76ED-48C5-AE49-5B3477563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B037-164E-4031-97E9-8B80A8273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046D-2659-45B7-AD09-EAA8570A0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A2B9-AE50-4889-8C9D-D675D7201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B01B-5440-484F-9D75-72403E22D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09E7-A58A-40FB-972C-E4A400B0D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EB1A-BCCE-499F-919D-2EA3131D4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D939-2298-4F3C-A478-09C6720F0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10EF-D81A-408A-BE50-4E16E652E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0F6E-E5F7-4196-9604-5D7B6A6B9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78FE-BC4F-47BC-86A9-1643FB7FD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3A09-EFED-484C-A61E-8EBEB51B5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534C-5DEC-4346-9775-9E0DA0B14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47C8-7A59-48B0-B330-9E5F1015E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B447-A60C-4B61-B373-2123E5080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227C-0AE1-440B-8DE8-3321F98CE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3490-917A-4E3E-82E6-35D00D451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E9F9-ED95-4CB6-898D-DDCE16CBF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9D0F-BD1B-46C8-9686-BC703227F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5CEC-65A7-4B5D-A77E-C3E4C4F3C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C050-00F7-4733-A98D-F906767C0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3380-AA52-4193-9721-ACE28CD21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FEF4-65C7-4DC7-8573-6E99BF71C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F427-B820-4B52-9D9C-81740320E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A2B2-4EE9-4000-AF04-1711D895C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8774-B869-49DE-B579-F53534216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1C4F-3231-4C6C-8BD9-354D4CB74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A0C8-4C86-4B7F-BACF-33D016FEA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1996-3E32-49E2-9353-97524AE28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6ACA-DBC8-46DE-9300-321956A79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B095-456E-4D5C-A37E-F3801FEE3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274E-E0A9-4888-B56B-8E80FD62E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A2FD-48B1-429E-A0A0-E33D7B0F3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2D24-7E67-4C91-8966-5973D869B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2A00-7658-4393-A580-AF592F5C3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B9BC-4EF4-4B93-B60A-2E39B6383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3EA1-DB4F-4A93-8274-4283C5238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1B71-4C96-4B90-9936-9822F9C5F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4D4F-FCCF-4F61-8C02-3A0305FEE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37A6-4988-41E3-B43F-27C443705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4616-E93B-4A18-8B53-68D291ED2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0744-7A7B-4AA4-B691-1D3F620A5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B647-12A6-4BE9-88DA-3358B7F3B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31BF-18E5-4CB9-88FF-F1CD8617E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0B8C-9C4D-4945-9F34-939BD7A13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AF02-B64E-4BA6-8A97-9CADE1708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9F2D-1D30-4722-BB86-362E5FA65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1EE8-B6BB-4E0F-8863-DFA3E3F66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905A-C3F7-45E2-B049-8542B5396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5E62-0A42-4023-9AE3-DC2F96ADB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84FB-1C87-4174-8CFC-A2AD30825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3786-5DEC-4DEB-B470-0B01144CE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4890-0D81-4126-B5CB-A2C94DC6E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276C-9E22-4C02-8962-9EDA8FE4B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8F8F-6263-4410-83AE-39F398D78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7535-BBF0-4F5E-9535-54D54E693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996C-EF5D-4669-9781-CF8350470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6FE8-DE8E-4BEB-9B13-5E890E9DD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CF74-800C-46A6-AF25-F2ED48954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E7BF-F3B1-44A1-9E93-4FE47D6B6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D9E5-3EB4-48AC-BC33-6E906F65C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A3D5-4C95-4CC5-9E7A-4DC38F165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A34F-4F4A-4110-B88B-3436CF873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03A2-A239-440D-A86F-1E51F3352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04F2-79CA-4000-B83D-A5DAC0DE2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BFF8-FE98-49F4-9AE4-829D4E63C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438C-0A48-4650-8E7B-7E6BCE97C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2984-6A00-4D49-BB0B-548BECE7D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C839-81BF-4E4D-ABCC-9177A7A5B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CE8B-9C4F-4DEC-B2C0-478558670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CB41-7D2F-48CC-91D5-0721DC4A7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E974-1D28-445B-BCF3-3FDCEA9DD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3008-1228-40AF-87DD-4B7F6D1BA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0730-E9C0-4053-8223-70858CF95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8B61-FAD0-4EAD-8E52-409CD1EC1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8DCF-C064-41B7-91F9-5AA9ED943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CBA6-934A-4881-97DD-203F5F65C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3778-A507-48CB-9DF7-D6B0F45C8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4E65-EE00-4B7F-B74F-2441AED40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F764-F5FD-402A-8BA5-2B60B3C78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D1C5-10AC-4660-80CD-549BEC5C0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64E2-9E38-47A7-B702-FBEE296AD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06BC-61C2-431D-BEFC-A50E54B2B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8BE1-03EA-47F2-89B8-D751BF7B2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8310-AF50-45A0-AF07-833EBB1EF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EDC5-D475-4B9F-ADF4-F371F01C2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DE1A-B0CD-4722-9A70-D150B6DBC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5095-5176-4AC4-AB70-857E06339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4181-B37D-4E05-8572-44D510FCB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EC35-0151-4F36-A9FA-AC288E8E7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6037-BD96-4B77-B346-11696236F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1690-E0AA-41BE-9711-79FBFFF1B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5A67-AD80-4F98-88C9-B7B35CD30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2603-0BAB-4797-8334-EA52C40B9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9DB3-8D03-47E9-AB67-981D539A6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AC15-9017-4C92-A607-DF1A8FADD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66F1-67E0-4B22-8F23-D7E7D5958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33AD-E747-49E5-8489-EE6ECFE99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47FC-718A-4E98-94B1-53DB26EC7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4869-A617-4410-B514-0D7F92BC1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127E-E067-459D-B9F5-0B535CA31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62C1-10DA-49CD-ACBD-00E5D3661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C47F-9F78-47D6-8707-5FDD122B9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8646-CB58-45DE-AE52-2D7347F59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567A-0804-4C0C-8A74-BA4D96B33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43B8-B161-47D0-A175-668E9AA2D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45A2-B562-4FF7-A804-200F6E669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11C7-DE34-4079-A418-3E35A0754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4218-F664-4CA4-BC32-FDFE2256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33C2-A4B3-4E59-96B2-47F2BCD7B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EB7C-5ABA-402C-8096-F14B9AA0F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9614-EBFC-4CF8-A002-F5B4D3DE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750F-25F0-4479-BC2F-76638FBC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316E-5498-4C73-B7DC-438520DE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0B71-0539-4A15-8AA5-5A08C501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FEE8-9010-4F1C-994E-4B9D78E4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6CAC-BFCC-4C08-9475-3817A305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22C5-8D9C-42CE-8761-1A4C57A3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729D-97B7-4423-B44F-BAF8EB5C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21AB-DB7F-48B4-AA00-E7CA038CA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" Target="slide32.xml"/><Relationship Id="rId32" Type="http://schemas.openxmlformats.org/officeDocument/2006/relationships/slide" Target="slide33.xml"/><Relationship Id="rId33" Type="http://schemas.openxmlformats.org/officeDocument/2006/relationships/slide" Target="slide34.xml"/><Relationship Id="rId34" Type="http://schemas.openxmlformats.org/officeDocument/2006/relationships/slide" Target="slide35.xml"/><Relationship Id="rId35" Type="http://schemas.openxmlformats.org/officeDocument/2006/relationships/slide" Target="slide36.xml"/><Relationship Id="rId36" Type="http://schemas.openxmlformats.org/officeDocument/2006/relationships/slide" Target="slide37.xml"/><Relationship Id="rId37" Type="http://schemas.openxmlformats.org/officeDocument/2006/relationships/slide" Target="slide38.xml"/><Relationship Id="rId38" Type="http://schemas.openxmlformats.org/officeDocument/2006/relationships/slide" Target="slide39.xml"/><Relationship Id="rId39" Type="http://schemas.openxmlformats.org/officeDocument/2006/relationships/slide" Target="slide40.xml"/><Relationship Id="rId40" Type="http://schemas.openxmlformats.org/officeDocument/2006/relationships/slide" Target="slide41.xml"/><Relationship Id="rId41" Type="http://schemas.openxmlformats.org/officeDocument/2006/relationships/slide" Target="slide42.xml"/><Relationship Id="rId42" Type="http://schemas.openxmlformats.org/officeDocument/2006/relationships/slide" Target="slide43.xml"/><Relationship Id="rId43" Type="http://schemas.openxmlformats.org/officeDocument/2006/relationships/slide" Target="slide44.xml"/><Relationship Id="rId44" Type="http://schemas.openxmlformats.org/officeDocument/2006/relationships/slide" Target="slide45.xml"/><Relationship Id="rId45" Type="http://schemas.openxmlformats.org/officeDocument/2006/relationships/slide" Target="slide46.xml"/><Relationship Id="rId46" Type="http://schemas.openxmlformats.org/officeDocument/2006/relationships/slide" Target="slide47.xml"/><Relationship Id="rId47" Type="http://schemas.openxmlformats.org/officeDocument/2006/relationships/slide" Target="slide48.xml"/><Relationship Id="rId48" Type="http://schemas.openxmlformats.org/officeDocument/2006/relationships/slide" Target="slide49.xml"/><Relationship Id="rId49" Type="http://schemas.openxmlformats.org/officeDocument/2006/relationships/slide" Target="slide50.xml"/><Relationship Id="rId50" Type="http://schemas.openxmlformats.org/officeDocument/2006/relationships/slide" Target="slide51.xml"/><Relationship Id="rId51" Type="http://schemas.openxmlformats.org/officeDocument/2006/relationships/slide" Target="slide52.xml"/><Relationship Id="rId52" Type="http://schemas.openxmlformats.org/officeDocument/2006/relationships/slide" Target="slide53.xml"/><Relationship Id="rId53" Type="http://schemas.openxmlformats.org/officeDocument/2006/relationships/slide" Target="slide54.xml"/><Relationship Id="rId54" Type="http://schemas.openxmlformats.org/officeDocument/2006/relationships/slide" Target="slide55.xml"/><Relationship Id="rId55" Type="http://schemas.openxmlformats.org/officeDocument/2006/relationships/slide" Target="slide56.xml"/><Relationship Id="rId56" Type="http://schemas.openxmlformats.org/officeDocument/2006/relationships/slide" Target="slide57.xml"/><Relationship Id="rId57" Type="http://schemas.openxmlformats.org/officeDocument/2006/relationships/slide" Target="slide58.xml"/><Relationship Id="rId58" Type="http://schemas.openxmlformats.org/officeDocument/2006/relationships/slide" Target="slide59.xml"/><Relationship Id="rId59" Type="http://schemas.openxmlformats.org/officeDocument/2006/relationships/slide" Target="slide60.xml"/><Relationship Id="rId60" Type="http://schemas.openxmlformats.org/officeDocument/2006/relationships/slide" Target="slide61.xml"/><Relationship Id="rId61" Type="http://schemas.openxmlformats.org/officeDocument/2006/relationships/slide" Target="slide62.xml"/><Relationship Id="rId62" Type="http://schemas.openxmlformats.org/officeDocument/2006/relationships/slide" Target="slide63.xml"/><Relationship Id="rId63" Type="http://schemas.openxmlformats.org/officeDocument/2006/relationships/slide" Target="slide64.xml"/><Relationship Id="rId64" Type="http://schemas.openxmlformats.org/officeDocument/2006/relationships/slide" Target="slide65.xml"/><Relationship Id="rId65" Type="http://schemas.openxmlformats.org/officeDocument/2006/relationships/slide" Target="slide66.xml"/><Relationship Id="rId66" Type="http://schemas.openxmlformats.org/officeDocument/2006/relationships/slide" Target="slide67.xml"/><Relationship Id="rId67" Type="http://schemas.openxmlformats.org/officeDocument/2006/relationships/slide" Target="slide68.xml"/><Relationship Id="rId68" Type="http://schemas.openxmlformats.org/officeDocument/2006/relationships/slide" Target="slide69.xml"/><Relationship Id="rId69" Type="http://schemas.openxmlformats.org/officeDocument/2006/relationships/slide" Target="slide70.xml"/><Relationship Id="rId70" Type="http://schemas.openxmlformats.org/officeDocument/2006/relationships/slide" Target="slide71.xml"/><Relationship Id="rId71" Type="http://schemas.openxmlformats.org/officeDocument/2006/relationships/slide" Target="slide72.xml"/><Relationship Id="rId72" Type="http://schemas.openxmlformats.org/officeDocument/2006/relationships/slide" Target="slide73.xml"/><Relationship Id="rId73" Type="http://schemas.openxmlformats.org/officeDocument/2006/relationships/slide" Target="slide74.xml"/><Relationship Id="rId74" Type="http://schemas.openxmlformats.org/officeDocument/2006/relationships/slide" Target="slide75.xml"/><Relationship Id="rId75" Type="http://schemas.openxmlformats.org/officeDocument/2006/relationships/slide" Target="slide76.xml"/><Relationship Id="rId76" Type="http://schemas.openxmlformats.org/officeDocument/2006/relationships/slide" Target="slide77.xml"/><Relationship Id="rId77" Type="http://schemas.openxmlformats.org/officeDocument/2006/relationships/slide" Target="slide78.xml"/><Relationship Id="rId78" Type="http://schemas.openxmlformats.org/officeDocument/2006/relationships/slide" Target="slide79.xml"/><Relationship Id="rId79" Type="http://schemas.openxmlformats.org/officeDocument/2006/relationships/slide" Target="slide80.xml"/><Relationship Id="rId80" Type="http://schemas.openxmlformats.org/officeDocument/2006/relationships/slide" Target="slide81.xml"/><Relationship Id="rId81" Type="http://schemas.openxmlformats.org/officeDocument/2006/relationships/slide" Target="slide82.xml"/><Relationship Id="rId82" Type="http://schemas.openxmlformats.org/officeDocument/2006/relationships/slide" Target="slide83.xml"/><Relationship Id="rId83" Type="http://schemas.openxmlformats.org/officeDocument/2006/relationships/slide" Target="slide84.xml"/><Relationship Id="rId84" Type="http://schemas.openxmlformats.org/officeDocument/2006/relationships/slide" Target="slide85.xml"/><Relationship Id="rId85" Type="http://schemas.openxmlformats.org/officeDocument/2006/relationships/slide" Target="slide86.xml"/><Relationship Id="rId86" Type="http://schemas.openxmlformats.org/officeDocument/2006/relationships/slide" Target="slide87.xml"/><Relationship Id="rId87" Type="http://schemas.openxmlformats.org/officeDocument/2006/relationships/slide" Target="slide88.xml"/><Relationship Id="rId88" Type="http://schemas.openxmlformats.org/officeDocument/2006/relationships/slide" Target="slide89.xml"/><Relationship Id="rId89" Type="http://schemas.openxmlformats.org/officeDocument/2006/relationships/slide" Target="slide90.xml"/><Relationship Id="rId90" Type="http://schemas.openxmlformats.org/officeDocument/2006/relationships/slide" Target="slide91.xml"/><Relationship Id="rId91" Type="http://schemas.openxmlformats.org/officeDocument/2006/relationships/slide" Target="slide92.xml"/><Relationship Id="rId92" Type="http://schemas.openxmlformats.org/officeDocument/2006/relationships/slide" Target="slide93.xml"/><Relationship Id="rId93" Type="http://schemas.openxmlformats.org/officeDocument/2006/relationships/slide" Target="slide94.xml"/><Relationship Id="rId94" Type="http://schemas.openxmlformats.org/officeDocument/2006/relationships/slide" Target="slide95.xml"/><Relationship Id="rId95" Type="http://schemas.openxmlformats.org/officeDocument/2006/relationships/slide" Target="slide96.xml"/><Relationship Id="rId96" Type="http://schemas.openxmlformats.org/officeDocument/2006/relationships/slide" Target="slide97.xml"/><Relationship Id="rId97" Type="http://schemas.openxmlformats.org/officeDocument/2006/relationships/slide" Target="slide98.xml"/><Relationship Id="rId98" Type="http://schemas.openxmlformats.org/officeDocument/2006/relationships/slide" Target="slide99.xml"/><Relationship Id="rId99" Type="http://schemas.openxmlformats.org/officeDocument/2006/relationships/slide" Target="slide100.xml"/><Relationship Id="rId100" Type="http://schemas.openxmlformats.org/officeDocument/2006/relationships/slide" Target="slide101.xml"/><Relationship Id="rId101" Type="http://schemas.openxmlformats.org/officeDocument/2006/relationships/slide" Target="slide102.xml"/><Relationship Id="rId102" Type="http://schemas.openxmlformats.org/officeDocument/2006/relationships/slide" Target="slide103.xml"/><Relationship Id="rId103" Type="http://schemas.openxmlformats.org/officeDocument/2006/relationships/slide" Target="slide104.xml"/><Relationship Id="rId104" Type="http://schemas.openxmlformats.org/officeDocument/2006/relationships/slide" Target="slide105.xml"/><Relationship Id="rId105" Type="http://schemas.openxmlformats.org/officeDocument/2006/relationships/slide" Target="slide106.xml"/><Relationship Id="rId106" Type="http://schemas.openxmlformats.org/officeDocument/2006/relationships/slide" Target="slide107.xml"/><Relationship Id="rId107" Type="http://schemas.openxmlformats.org/officeDocument/2006/relationships/slide" Target="slide108.xml"/><Relationship Id="rId108" Type="http://schemas.openxmlformats.org/officeDocument/2006/relationships/slide" Target="slide109.xml"/><Relationship Id="rId109" Type="http://schemas.openxmlformats.org/officeDocument/2006/relationships/slide" Target="slide110.xml"/><Relationship Id="rId110" Type="http://schemas.openxmlformats.org/officeDocument/2006/relationships/slide" Target="slide111.xml"/><Relationship Id="rId111" Type="http://schemas.openxmlformats.org/officeDocument/2006/relationships/slide" Target="slide112.xml"/><Relationship Id="rId112" Type="http://schemas.openxmlformats.org/officeDocument/2006/relationships/slide" Target="slide113.xml"/><Relationship Id="rId113" Type="http://schemas.openxmlformats.org/officeDocument/2006/relationships/slide" Target="slide114.xml"/><Relationship Id="rId114" Type="http://schemas.openxmlformats.org/officeDocument/2006/relationships/slide" Target="slide115.xml"/><Relationship Id="rId115" Type="http://schemas.openxmlformats.org/officeDocument/2006/relationships/slide" Target="slide116.xml"/><Relationship Id="rId116" Type="http://schemas.openxmlformats.org/officeDocument/2006/relationships/slide" Target="slide117.xml"/><Relationship Id="rId117" Type="http://schemas.openxmlformats.org/officeDocument/2006/relationships/slide" Target="slide118.xml"/><Relationship Id="rId118" Type="http://schemas.openxmlformats.org/officeDocument/2006/relationships/slide" Target="slide119.xml"/><Relationship Id="rId119" Type="http://schemas.openxmlformats.org/officeDocument/2006/relationships/slide" Target="slide120.xml"/><Relationship Id="rId120" Type="http://schemas.openxmlformats.org/officeDocument/2006/relationships/slide" Target="slide121.xml"/><Relationship Id="rId121" Type="http://schemas.openxmlformats.org/officeDocument/2006/relationships/slide" Target="slide122.xml"/><Relationship Id="rId122" Type="http://schemas.openxmlformats.org/officeDocument/2006/relationships/slide" Target="slide123.xml"/><Relationship Id="rId123" Type="http://schemas.openxmlformats.org/officeDocument/2006/relationships/slide" Target="slide124.xml"/><Relationship Id="rId124" Type="http://schemas.openxmlformats.org/officeDocument/2006/relationships/slide" Target="slide125.xml"/><Relationship Id="rId125" Type="http://schemas.openxmlformats.org/officeDocument/2006/relationships/slide" Target="slide126.xml"/><Relationship Id="rId126" Type="http://schemas.openxmlformats.org/officeDocument/2006/relationships/slide" Target="slide127.xml"/><Relationship Id="rId127" Type="http://schemas.openxmlformats.org/officeDocument/2006/relationships/slide" Target="slide128.xml"/><Relationship Id="rId128" Type="http://schemas.openxmlformats.org/officeDocument/2006/relationships/slide" Target="slide129.xml"/><Relationship Id="rId129" Type="http://schemas.openxmlformats.org/officeDocument/2006/relationships/slide" Target="slide130.xml"/><Relationship Id="rId130" Type="http://schemas.openxmlformats.org/officeDocument/2006/relationships/slide" Target="slide131.xml"/><Relationship Id="rId131" Type="http://schemas.openxmlformats.org/officeDocument/2006/relationships/slide" Target="slide132.xml"/><Relationship Id="rId132" Type="http://schemas.openxmlformats.org/officeDocument/2006/relationships/slide" Target="slide133.xml"/><Relationship Id="rId133" Type="http://schemas.openxmlformats.org/officeDocument/2006/relationships/slide" Target="slide134.xml"/><Relationship Id="rId134" Type="http://schemas.openxmlformats.org/officeDocument/2006/relationships/slide" Target="slide135.xml"/><Relationship Id="rId135" Type="http://schemas.openxmlformats.org/officeDocument/2006/relationships/slide" Target="slide136.xml"/><Relationship Id="rId136" Type="http://schemas.openxmlformats.org/officeDocument/2006/relationships/slide" Target="slide137.xml"/><Relationship Id="rId137" Type="http://schemas.openxmlformats.org/officeDocument/2006/relationships/slide" Target="slide138.xml"/><Relationship Id="rId138" Type="http://schemas.openxmlformats.org/officeDocument/2006/relationships/slide" Target="slide139.xml"/><Relationship Id="rId139" Type="http://schemas.openxmlformats.org/officeDocument/2006/relationships/slide" Target="slide140.xml"/><Relationship Id="rId140" Type="http://schemas.openxmlformats.org/officeDocument/2006/relationships/slide" Target="slide141.xml"/><Relationship Id="rId141" Type="http://schemas.openxmlformats.org/officeDocument/2006/relationships/slide" Target="slide142.xml"/><Relationship Id="rId142" Type="http://schemas.openxmlformats.org/officeDocument/2006/relationships/slide" Target="slide143.xml"/><Relationship Id="rId143" Type="http://schemas.openxmlformats.org/officeDocument/2006/relationships/slide" Target="slide144.xml"/><Relationship Id="rId144" Type="http://schemas.openxmlformats.org/officeDocument/2006/relationships/slide" Target="slide145.xml"/><Relationship Id="rId145" Type="http://schemas.openxmlformats.org/officeDocument/2006/relationships/slide" Target="slide146.xml"/><Relationship Id="rId146" Type="http://schemas.openxmlformats.org/officeDocument/2006/relationships/slide" Target="slide147.xml"/><Relationship Id="rId147" Type="http://schemas.openxmlformats.org/officeDocument/2006/relationships/slide" Target="slide148.xml"/><Relationship Id="rId148" Type="http://schemas.openxmlformats.org/officeDocument/2006/relationships/slide" Target="slide149.xml"/><Relationship Id="rId149" Type="http://schemas.openxmlformats.org/officeDocument/2006/relationships/slide" Target="slide150.xml"/><Relationship Id="rId150" Type="http://schemas.openxmlformats.org/officeDocument/2006/relationships/slide" Target="slide151.xml"/><Relationship Id="rId151" Type="http://schemas.openxmlformats.org/officeDocument/2006/relationships/slide" Target="slide152.xml"/><Relationship Id="rId152" Type="http://schemas.openxmlformats.org/officeDocument/2006/relationships/slide" Target="slide153.xml"/><Relationship Id="rId153" Type="http://schemas.openxmlformats.org/officeDocument/2006/relationships/slide" Target="slide154.xml"/><Relationship Id="rId154" Type="http://schemas.openxmlformats.org/officeDocument/2006/relationships/slide" Target="slide155.xml"/><Relationship Id="rId155" Type="http://schemas.openxmlformats.org/officeDocument/2006/relationships/slide" Target="slide156.xml"/><Relationship Id="rId156" Type="http://schemas.openxmlformats.org/officeDocument/2006/relationships/slide" Target="slide157.xml"/><Relationship Id="rId157" Type="http://schemas.openxmlformats.org/officeDocument/2006/relationships/slide" Target="slide158.xml"/><Relationship Id="rId158" Type="http://schemas.openxmlformats.org/officeDocument/2006/relationships/slide" Target="slide159.xml"/><Relationship Id="rId159" Type="http://schemas.openxmlformats.org/officeDocument/2006/relationships/slide" Target="slide160.xml"/><Relationship Id="rId160" Type="http://schemas.openxmlformats.org/officeDocument/2006/relationships/slide" Target="slide161.xml"/><Relationship Id="rId161" Type="http://schemas.openxmlformats.org/officeDocument/2006/relationships/slide" Target="slide162.xml"/><Relationship Id="rId162" Type="http://schemas.openxmlformats.org/officeDocument/2006/relationships/slide" Target="slide163.xml"/><Relationship Id="rId163" Type="http://schemas.openxmlformats.org/officeDocument/2006/relationships/slide" Target="slide164.xml"/><Relationship Id="rId164" Type="http://schemas.openxmlformats.org/officeDocument/2006/relationships/slide" Target="slide165.xml"/><Relationship Id="rId165" Type="http://schemas.openxmlformats.org/officeDocument/2006/relationships/slide" Target="slide166.xml"/><Relationship Id="rId166" Type="http://schemas.openxmlformats.org/officeDocument/2006/relationships/slide" Target="slide167.xml"/><Relationship Id="rId167" Type="http://schemas.openxmlformats.org/officeDocument/2006/relationships/slide" Target="slide168.xml"/><Relationship Id="rId168" Type="http://schemas.openxmlformats.org/officeDocument/2006/relationships/slide" Target="slide169.xml"/><Relationship Id="rId169" Type="http://schemas.openxmlformats.org/officeDocument/2006/relationships/slide" Target="slide170.xml"/><Relationship Id="rId170" Type="http://schemas.openxmlformats.org/officeDocument/2006/relationships/slide" Target="slide171.xml"/><Relationship Id="rId171" Type="http://schemas.openxmlformats.org/officeDocument/2006/relationships/slide" Target="slide172.xml"/><Relationship Id="rId172" Type="http://schemas.openxmlformats.org/officeDocument/2006/relationships/slide" Target="slide173.xml"/><Relationship Id="rId173" Type="http://schemas.openxmlformats.org/officeDocument/2006/relationships/slide" Target="slide174.xml"/><Relationship Id="rId174" Type="http://schemas.openxmlformats.org/officeDocument/2006/relationships/slide" Target="slide175.xml"/><Relationship Id="rId175" Type="http://schemas.openxmlformats.org/officeDocument/2006/relationships/slide" Target="slide176.xml"/><Relationship Id="rId176" Type="http://schemas.openxmlformats.org/officeDocument/2006/relationships/slide" Target="slide177.xml"/><Relationship Id="rId177" Type="http://schemas.openxmlformats.org/officeDocument/2006/relationships/slide" Target="slide178.xml"/><Relationship Id="rId178" Type="http://schemas.openxmlformats.org/officeDocument/2006/relationships/slide" Target="slide179.xml"/><Relationship Id="rId179" Type="http://schemas.openxmlformats.org/officeDocument/2006/relationships/slide" Target="slide180.xml"/><Relationship Id="rId180" Type="http://schemas.openxmlformats.org/officeDocument/2006/relationships/slide" Target="slide181.xml"/><Relationship Id="rId181" Type="http://schemas.openxmlformats.org/officeDocument/2006/relationships/slide" Target="slide182.xml"/><Relationship Id="rId182" Type="http://schemas.openxmlformats.org/officeDocument/2006/relationships/slide" Target="slide183.xml"/><Relationship Id="rId183" Type="http://schemas.openxmlformats.org/officeDocument/2006/relationships/slide" Target="slide184.xml"/><Relationship Id="rId184" Type="http://schemas.openxmlformats.org/officeDocument/2006/relationships/slide" Target="slide185.xml"/><Relationship Id="rId185" Type="http://schemas.openxmlformats.org/officeDocument/2006/relationships/slide" Target="slide186.xml"/><Relationship Id="rId186" Type="http://schemas.openxmlformats.org/officeDocument/2006/relationships/slide" Target="slide187.xml"/><Relationship Id="rId187" Type="http://schemas.openxmlformats.org/officeDocument/2006/relationships/slide" Target="slide188.xml"/><Relationship Id="rId188" Type="http://schemas.openxmlformats.org/officeDocument/2006/relationships/slide" Target="slide189.xml"/><Relationship Id="rId189" Type="http://schemas.openxmlformats.org/officeDocument/2006/relationships/slide" Target="slide190.xml"/><Relationship Id="rId190" Type="http://schemas.openxmlformats.org/officeDocument/2006/relationships/slide" Target="slide191.xml"/><Relationship Id="rId191" Type="http://schemas.openxmlformats.org/officeDocument/2006/relationships/slide" Target="slide192.xml"/><Relationship Id="rId192" Type="http://schemas.openxmlformats.org/officeDocument/2006/relationships/slide" Target="slide193.xml"/><Relationship Id="rId193" Type="http://schemas.openxmlformats.org/officeDocument/2006/relationships/slideLayout" Target="../slideLayouts/slideLayout1.xml"/><Relationship Id="rId19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9144000" cy="61722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1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2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0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1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3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4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6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7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9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0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2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3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5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6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8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9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1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2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0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1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3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4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6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7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9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0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2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3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5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6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8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9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1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2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0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1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3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4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6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7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9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0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2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3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5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6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8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9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1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2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0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1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3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4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6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7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9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0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2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3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5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6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8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9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1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2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0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1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3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4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6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7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9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0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2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3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5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6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8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9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1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2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0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1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4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4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verage temperature and rainfall of an area over many year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ma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tandard system of measure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ri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9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fix meaning one thousandth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ll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9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1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3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0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mount of space an object takes up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lu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, often in the form of facts and figures, obtained from experiments or survey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9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ool that uses a combination of lenses to make distant objects appear larger and near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lescop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77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8" dur="770" fill="hold"/>
                                        <p:tgtEl>
                                          <p:spTgt spid="4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0" dur="77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 able to be seen through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aq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1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4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4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1447920" y="20574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of an object that is a measure of the amount of matter an object ha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0" dur="8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1" dur="8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2" dur="8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distance an object moves over a given amount of tim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0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community of organisms and its environme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cosyst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lace where a person or thing i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77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3" dur="770" fill="hold"/>
                                        <p:tgtEl>
                                          <p:spTgt spid="5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5" dur="77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7" dur="77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4"/>
          <p:cNvSpPr/>
          <p:nvPr/>
        </p:nvSpPr>
        <p:spPr>
          <a:xfrm>
            <a:off x="1447920" y="20574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perty of magnetism, a force drawing objects together and resisting separ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traction (magnetic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ganism that feeds on dead organism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ompos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1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7" dur="4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4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8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ct of being on fire so as to give off heat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rn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5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6" dur="indefinite" restart="never" nodeType="tmRoot">
          <p:childTnLst>
            <p:seq>
              <p:cTn id="1177" dur="indefinite" nodeType="mainSeq">
                <p:childTnLst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easure of the force of gravity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igh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3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4" dur="indefinite" restart="never" nodeType="tmRoot">
          <p:childTnLst>
            <p:seq>
              <p:cTn id="1205" dur="indefinite" nodeType="mainSeq">
                <p:childTnLst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go back to the original shape or size after being stretched, pressed, or squeezed togeth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astici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bstance or object that does not allow electricity, heat, or sound to pass through it easi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ulat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15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5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ganisms that eats other organisms to get energ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um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4"/>
          <p:cNvSpPr/>
          <p:nvPr/>
        </p:nvSpPr>
        <p:spPr>
          <a:xfrm>
            <a:off x="1447920" y="20574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tement giving reasons for information obtained from experimen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lan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5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ility of an organism to stay aliv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rviv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tandard unit of measure of temperature. (Nonmetric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hrenhe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28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characteristic that is passed from parent to offspr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herited characteristic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8" dur="indefinite" restart="never" nodeType="tmRoot">
          <p:childTnLst>
            <p:seq>
              <p:cTn id="1339" dur="indefinite" nodeType="mainSeq">
                <p:childTnLst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6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6" dur="indefinite" restart="never" nodeType="tmRoot">
          <p:childTnLst>
            <p:seq>
              <p:cTn id="1357" dur="indefinite" nodeType="mainSeq">
                <p:childTnLst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2" dur="1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3" dur="4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4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fix meaning 10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n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73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4" dur="indefinite" restart="never" nodeType="tmRoot">
          <p:childTnLst>
            <p:seq>
              <p:cTn id="1375" dur="indefinite" nodeType="mainSeq">
                <p:childTnLst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2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3" dur="indefinite" restart="never" nodeType="tmRoot">
          <p:childTnLst>
            <p:seq>
              <p:cTn id="1384" dur="indefinite" nodeType="mainSeq">
                <p:childTnLst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9" dur="1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0" dur="4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4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bstance or object that can allow electricity, heat, or sound to pass through it easi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duct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4" dur="indefinite" restart="never" nodeType="tmRoot">
          <p:childTnLst>
            <p:seq>
              <p:cTn id="1395" dur="indefinite" nodeType="mainSeq">
                <p:childTnLst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3" dur="indefinite" restart="never" nodeType="tmRoot">
          <p:childTnLst>
            <p:seq>
              <p:cTn id="1414" dur="indefinite" nodeType="mainSeq">
                <p:childTnLst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9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4"/>
          <p:cNvSpPr/>
          <p:nvPr/>
        </p:nvSpPr>
        <p:spPr>
          <a:xfrm>
            <a:off x="1447920" y="20574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ries of steps, done in a particular order, to answer testable (scientific) questio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ced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2" dur="indefinite" restart="never" nodeType="tmRoot">
          <p:childTnLst>
            <p:seq>
              <p:cTn id="1423" dur="indefinite" nodeType="mainSeq">
                <p:childTnLst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0" dur="indefinite" restart="never" nodeType="tmRoot">
          <p:childTnLst>
            <p:seq>
              <p:cTn id="1431" dur="indefinite" nodeType="mainSeq">
                <p:childTnLst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6" dur="indefinite" restart="never" nodeType="tmRoot">
          <p:childTnLst>
            <p:seq>
              <p:cTn id="1437" dur="indefinite" nodeType="mainSeq">
                <p:childTnLst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4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ows all light to pass through, and objects can be clearly seen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par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3" dur="indefinite" restart="never" nodeType="tmRoot">
          <p:childTnLst>
            <p:seq>
              <p:cTn id="1444" dur="indefinite" nodeType="mainSeq">
                <p:childTnLst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49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0" dur="indefinite" restart="never" nodeType="tmRoot">
          <p:childTnLst>
            <p:seq>
              <p:cTn id="1451" dur="indefinite" nodeType="mainSeq">
                <p:childTnLst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4"/>
          <p:cNvSpPr/>
          <p:nvPr/>
        </p:nvSpPr>
        <p:spPr>
          <a:xfrm>
            <a:off x="1447920" y="20574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perty of magnetism, a force pushing objects apart and resisting attrac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ulsion ( Magnetic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1" dur="indefinite" restart="never" nodeType="tmRoot">
          <p:childTnLst>
            <p:seq>
              <p:cTn id="1472" dur="indefinite" nodeType="mainSeq">
                <p:childTnLst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7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0" dur="indefinite" restart="never" nodeType="tmRoot">
          <p:childTnLst>
            <p:seq>
              <p:cTn id="1481" dur="indefinite" nodeType="mainSeq">
                <p:childTnLst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6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easure of how hot or cold something i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mperat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4"/>
          <p:cNvSpPr/>
          <p:nvPr/>
        </p:nvSpPr>
        <p:spPr>
          <a:xfrm>
            <a:off x="1447920" y="20574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omething looks, smells, feels, Ex. Color, texture, floating, weight, o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ysical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7" dur="indefinite" restart="never" nodeType="tmRoot">
          <p:childTnLst>
            <p:seq>
              <p:cTn id="1488" dur="indefinite" nodeType="mainSeq">
                <p:childTnLst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3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4" dur="2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2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6" dur="indefinite" restart="never" nodeType="tmRoot">
          <p:childTnLst>
            <p:seq>
              <p:cTn id="1497" dur="indefinite" nodeType="mainSeq">
                <p:childTnLst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4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5" dur="indefinite" restart="never" nodeType="tmRoot">
          <p:childTnLst>
            <p:seq>
              <p:cTn id="1506" dur="indefinite" nodeType="mainSeq">
                <p:childTnLst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orce that resists motion between objects that are touching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ic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6" dur="indefinite" restart="never" nodeType="tmRoot">
          <p:childTnLst>
            <p:seq>
              <p:cTn id="1517" dur="indefinite" nodeType="mainSeq">
                <p:childTnLst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15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15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4" dur="indefinite" restart="never" nodeType="tmRoot">
          <p:childTnLst>
            <p:seq>
              <p:cTn id="1525" dur="indefinite" nodeType="mainSeq">
                <p:childTnLst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530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1" dur="indefinite" restart="never" nodeType="tmRoot">
          <p:childTnLst>
            <p:seq>
              <p:cTn id="1532" dur="indefinite" nodeType="mainSeq">
                <p:childTnLst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fix meaning 1,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l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1" dur="indefinite" restart="never" nodeType="tmRoot">
          <p:childTnLst>
            <p:seq>
              <p:cTn id="1552" dur="indefinite" nodeType="mainSeq">
                <p:childTnLst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7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8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0" dur="indefinite" restart="never" nodeType="tmRoot">
          <p:childTnLst>
            <p:seq>
              <p:cTn id="1561" dur="indefinite" nodeType="mainSeq">
                <p:childTnLst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0" dur="indefinite" restart="never" nodeType="tmRoot">
          <p:childTnLst>
            <p:seq>
              <p:cTn id="1571" dur="indefinite" nodeType="mainSeq">
                <p:childTnLst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6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orce on an object to move the object towards oneself or the cause of the forc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l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push or a pul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4" dur="indefinite" restart="never" nodeType="tmRoot">
          <p:childTnLst>
            <p:seq>
              <p:cTn id="1585" dur="indefinite" nodeType="mainSeq">
                <p:childTnLst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2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3" dur="indefinite" restart="never" nodeType="tmRoot">
          <p:childTnLst>
            <p:seq>
              <p:cTn id="1594" dur="indefinite" nodeType="mainSeq">
                <p:childTnLst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equence of who eats whom in a biological communit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od ch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9" dur="indefinite" restart="never" nodeType="tmRoot">
          <p:childTnLst>
            <p:seq>
              <p:cTn id="1600" dur="indefinite" nodeType="mainSeq">
                <p:childTnLst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5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6" dur="indefinite" restart="never" nodeType="tmRoot">
          <p:childTnLst>
            <p:seq>
              <p:cTn id="1607" dur="indefinite" nodeType="mainSeq">
                <p:childTnLst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2" dur="1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3" dur="4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4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7" dur="indefinite" restart="never" nodeType="tmRoot">
          <p:childTnLst>
            <p:seq>
              <p:cTn id="1618" dur="indefinite" nodeType="mainSeq">
                <p:childTnLst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25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way something work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6" dur="indefinite" restart="never" nodeType="tmRoot">
          <p:childTnLst>
            <p:seq>
              <p:cTn id="1627" dur="indefinite" nodeType="mainSeq">
                <p:childTnLst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34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5" dur="indefinite" restart="never" nodeType="tmRoot">
          <p:childTnLst>
            <p:seq>
              <p:cTn id="1636" dur="indefinite" nodeType="mainSeq">
                <p:childTnLst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6" dur="indefinite" restart="never" nodeType="tmRoot">
          <p:childTnLst>
            <p:seq>
              <p:cTn id="1647" dur="indefinite" nodeType="mainSeq">
                <p:childTnLst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4"/>
          <p:cNvSpPr/>
          <p:nvPr/>
        </p:nvSpPr>
        <p:spPr>
          <a:xfrm>
            <a:off x="1447920" y="2057400"/>
            <a:ext cx="6248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wo or more things are combined, but the things do not chan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. cement, trail mix, sa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xt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0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1" dur="indefinite" restart="never" nodeType="tmRoot">
          <p:childTnLst>
            <p:seq>
              <p:cTn id="1662" dur="indefinite" nodeType="mainSeq">
                <p:childTnLst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1" dur="indefinite" restart="never" nodeType="tmRoot">
          <p:childTnLst>
            <p:seq>
              <p:cTn id="1672" dur="indefinite" nodeType="mainSeq">
                <p:childTnLst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7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ool that uses a combination of lenses to produce a greatly magnified image of an object to small to be seen by the naked ey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croscop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8" dur="indefinite" restart="never" nodeType="tmRoot">
          <p:childTnLst>
            <p:seq>
              <p:cTn id="1679" dur="indefinite" nodeType="mainSeq">
                <p:childTnLst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8" dur="indefinite" restart="never" nodeType="tmRoot">
          <p:childTnLst>
            <p:seq>
              <p:cTn id="1689" dur="indefinite" nodeType="mainSeq">
                <p:childTnLst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4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5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9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8" dur="indefinite" restart="never" nodeType="tmRoot">
          <p:childTnLst>
            <p:seq>
              <p:cTn id="1699" dur="indefinite" nodeType="mainSeq">
                <p:childTnLst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4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7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447920" y="2057400"/>
            <a:ext cx="624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question that can be answered through an investigation where one part of an experiment is allowed to change and all other parts are kept the sam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447920" y="42670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able ques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mount or number of some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antitati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tandard unit of measure of volume. (metric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447920" y="20574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mount of size determined by comparison with a known quantit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sure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basic force that attracts all objects to each oth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vi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complete path along which electricity moves. (closed loop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rical circui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ges that an organism goes through as it grows and matur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fe Cyc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thing that has mass and takes up spac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t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group of organisms that live together and share resourc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uni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dropping of eroded soil and rock pieces in a new plac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osi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tandard unit of measure of temperature. (metric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lsi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tool to measure temperatur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mome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4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4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surement of the size of an object. (length, width, height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mens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9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ething you can observe about an object that can be used to describe the object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istic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77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1" dur="770" fill="hold"/>
                                        <p:tgtEl>
                                          <p:spTgt spid="2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3" dur="77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5" dur="77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turn of information about the result of a scientific investigation which modify, correct, or strengthen the investig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447920" y="42670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ba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oose material in which plants can grow in the upper layer of Earth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i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 Earth material made up of different ingredients called mineral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ck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ganisms that make their own foo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tter that takes the shape and volume of its container. Ex. – ai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way something is put togeth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uct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tandard unit of measure of length. (metric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s caused by vibrations through a material which can be heard when they reach a person’s or animal’s ea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ows some light to pass, but does not produce detailed imag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luc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447920" y="20574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er that cannot be separated into other kinds of matter by any physical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e substa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51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orce on an object to move the object away from oneself or the cause of forc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s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orce of push and pull between poles of magnet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gnetis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s made to organisms to help it meet its need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vement of Earth materials by water, wind, or ic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ros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4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4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natural liquid material made up of hydrogen and oxyge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2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measurable object, condition, or event, which can be change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b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asic Earth material; a rock ingredient that cannot be physically broken down any fur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eral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ries of controlled steps, which can be repeated, for the purpose of answering a testable ques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estigation (Experi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rocess by which rocks are broken down into smaller piec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ather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6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ayer of air that surrounds Earth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mosphe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40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nd back, for example when light bounces off an object that it does not go throug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lec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31T01:07:29Z</dcterms:created>
  <dc:creator>Westside Community Schools</dc:creator>
  <dc:description/>
  <dc:language>en-US</dc:language>
  <cp:lastModifiedBy>Mr. Zoubek</cp:lastModifiedBy>
  <dcterms:modified xsi:type="dcterms:W3CDTF">2012-12-31T02:52:21Z</dcterms:modified>
  <cp:revision>9</cp:revision>
  <dc:subject/>
  <dc:title>PowerPoint Presentation</dc:title>
</cp:coreProperties>
</file>