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675-A7F8-47C0-8210-0C9E3C34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4C2B-35C4-4F2E-A251-EA73DE19C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A3A6-98D6-4C04-9887-A1226F161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9954-C478-48CD-8548-2FA076C7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69E6-5717-4FF4-AA6D-1A7B2BA99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CB12-54FD-4AE8-8D43-3D8613F5B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BD2A-457F-4509-9F28-EEBE7C52F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B759-9FF1-4CDF-9D63-69D02C9C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1BF1-EF79-4C9B-99A4-1B442442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3096-7E88-4312-83D5-6EBB26F4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CF51-F206-439F-A76B-1ED6FCD6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0F82-AA88-4A6F-942C-DB98E1C55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3411-20FB-4054-A919-C0826D75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BF74-D7E4-48C5-BD42-240F94C4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22FA-5EF2-44E4-989E-3523051CC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2B49-94FF-4740-8110-44469FAB9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B0CD-035E-45A3-BF90-C07E7FD0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3B10-F00A-40C7-926F-8695CC6F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E251-9235-4DED-8D2E-56229DDB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3491-090B-4821-BA35-1C4B9996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BB71-6188-48E8-B257-F772F323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D2AE-69B9-4189-9808-BCC9E0E51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5A7E-D39C-497D-96CF-55D981C32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56AC-D36D-4EB7-AE9E-3978D1532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46DF-9209-471F-A99F-55CFC4BA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100-2A7B-4F02-93CE-A4D5F16C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8375-C578-440E-BCA7-617B5E3B2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45FE-8D94-4237-B253-4B4006872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053-6FD0-4189-9148-F2445E140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534F-311F-4BF0-9F55-A6D6A7B7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372A-D49B-4D15-B0AC-C099E89C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94B-396B-4D51-9F54-AF1FC16FC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A4A2-35BC-43C2-BA25-2D34EFF3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261-1CEF-4019-B686-3D98DFD7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F0DB-F0B2-410D-8B0D-D4574E8B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7F3E-4A54-4667-B89E-B118F2D4E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6CF6-CA5A-444C-956F-375F9CE5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CDC6-D355-4DC9-A7CB-097C807C4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7740-A765-4485-941E-BCBE2DB2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CBBA-0EEF-40C1-9AC4-129628B83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66E8-586B-4202-9389-AD2BDD205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5DC3-84AF-4791-AD32-CF0FAA3F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8A27-0C78-4E37-9521-55C875FF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1CCF-B010-4800-BB65-CBE5B309D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8D17-6F38-44D2-BC58-3FB3E3677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B240-A230-44AC-A4A1-2054F084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D5E4-1FB2-4F83-9F58-18DEFB36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7FBD-774F-4060-BFE9-09E0B805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28E-0C75-48DC-B45C-617639C0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00BA-B5EA-4E09-A0CC-953097BF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634F-5B90-4CC2-818E-C9E97BFBD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BBBE-179B-4202-B8D2-2BC523881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A4AC-889B-4C8B-8EFD-5F55BD9D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1CF6-687C-4C23-95A0-360E8A33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C26A-D753-4F25-9752-3F39217FD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B56D-235E-40ED-83EF-ACD03FA5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561-98FF-4590-A93A-A12AE84D3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425D-3CB1-4560-A529-295EE5D52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15D-2D38-4C8C-808E-0B34F808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0453-0494-4EE3-B79F-C2EB18C1A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F627-8AD7-4562-B517-403483AF7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C8E0-657A-4071-95C3-D9D7BB9B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B26-02D9-4B63-B973-A53E09F2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88D-2A25-4081-8816-B97CF8DFB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9355-5DC4-4CC0-AFF8-74BC77D8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4716-B650-4DDB-9F0A-E21D8712D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0648-161B-40B1-9E7E-268D4CBCF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CBD-E85C-44F5-B32B-C24FF43C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FB14-42FC-4C98-95BF-A974AD7DA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BE7C-BE1E-45E8-98FF-86827A3AC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AD60-FAEB-43AC-9829-C432269B3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E240-1085-447E-B85F-4091BE86F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F39-0374-4D90-A1EF-994E9571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AB75-D613-49AC-A2BE-0C0F2A52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87D-BAE8-4BA6-A181-BCDC4029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E35A-A789-4249-8965-E0C6CC20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61EF-B1F3-4A70-BCDF-DC16CCC9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32B7-7CE0-47AC-9B16-07166CA7D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6895-F4BB-4F0A-AAF5-640C53440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2912-FD3F-48F7-B9C2-B02763FE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215E-6D60-43D2-B810-CD6E51BAB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4F71-3A54-4FA5-A2DE-8B0B7F0C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AE68-0E5A-4152-B65C-67C68B96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BF4E-79EC-4C52-BCD1-75F8A32B4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6041-77D9-48EE-8CE3-B0E644E1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ABA-9141-4590-A088-86D44395C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5E37-0BDB-4887-A53D-1CC986F7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51C4-FAA7-45FC-AE8A-B836B8927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DB6C-2DFD-4BDD-AEE1-0470AE39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272-599E-47DC-B145-FAC67F9B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F4BB-264B-4D18-B240-479DAC98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A2F7-179F-4A9A-A835-65EBFB54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70F8-C4B5-4A30-BD7D-0431012C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C159-3336-4F4E-B95D-B0D3CF79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226D-363C-46B6-9A84-83AA70B2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7D5-8F3F-4B28-AEFD-1E5337C5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177E-3A4B-485B-8064-F6A0181B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6920-190B-4372-8004-86BCAF61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E5DB-0FFF-4D65-B1B3-AC1A0C30D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2A2-DB65-4074-8429-F8FA9DBD7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D29C-1D5C-4AC3-AE19-5189EC608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CB48-4119-4E6B-9C36-00D2893EC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DF91-1AA3-4DB2-BF55-374A103A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8676-5B13-41AA-9D0A-A0F2CECD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45A7-7A47-4DD3-B8F3-750305A5F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14CE-AD40-4906-9C3B-6DAF8F9F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CD5-4258-4416-A09A-8A5D0335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61B7-47D9-4B5E-B31F-3B83B3540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08A5-6D10-48E3-8767-BCD0371B6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CBD1-A7BF-4553-9DAF-D8FB9E32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C9D5-9E8F-40D3-B24E-15BDFE2FD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2F5C-192C-4E4C-B7AF-140744C2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208F-DA48-4757-A517-CC2CDD344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F11F-C0A8-4E22-8E9D-AC2BBB31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087C-0DE7-48F1-A6BE-07E57E7C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1655-E62F-46D2-BDD5-3CAD3972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9C4B-FD6D-47F5-A3E4-E6D3B4AD0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671-EEBA-4D34-9B6E-0E263531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BC5C-03AC-4BEE-B39C-4E564F66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7F2C-376A-4498-9D01-2E346CAC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9559-B2F6-4C35-A711-98DBE5E52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2B3C-9546-4781-A42D-DD8842BE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61B6-CF85-40AF-A835-FF3DEE4E5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A8AE-7C3F-417F-84EE-1AB171EF3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50EC-6593-4BAD-8C81-54DC696C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E23B-73A1-416A-A05F-9301EC58C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268A-0554-47BC-AE2D-A637B34B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C78-D61D-4959-A535-32E51FE74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5C38-985B-4047-99DD-86CB87E15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7718-6ED6-4C5E-AB01-AE63206C8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AE1B-3B86-4468-BBBB-C4A09C105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CD4C-8965-42F0-89ED-C804AE175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236A-B081-48EB-889A-E5BD93CC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8EB-F191-40AB-A2F7-7ADA823E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6E3E-55F7-44EC-86F4-65BA6737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AB7-56C8-4C74-A759-CC471000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2B76-78A1-4ECC-9B35-3B494581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1AEC-4EF7-4B3B-9621-A5AADC81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3784-3644-421E-A8F4-F52EC6D10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069C-CD14-4B27-855C-E7F40D07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775-6A93-4AA0-AC3B-B3DAA585D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E698-69F8-4551-A068-4CB55A5B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EF99-68DE-4AEC-AFDF-2BF03AFC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21FB-315B-48FD-AA87-466A4D38C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D622-6068-4F8D-BD5F-E814C20D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26A5-381F-491C-AA89-90F5A530C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9590-B64F-406E-ACA5-4718E4416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3B22-119C-4D8C-B482-F0D11CB2D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B1BE-26EA-49E9-8A5A-FE608A471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E58C-4B96-4AA4-A293-8ED67ACAC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866-1E3B-4CDD-8E47-8BC4DE57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9A3C-E703-44D1-ADD1-203EBBBD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0C91-1483-40A5-B286-45E588D3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016-02EF-45EF-890A-8F716D72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F07-FF98-497E-BE23-89624BF78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17B3-8E44-4A80-86FA-41E82ED95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0D3-74D7-4320-B5C5-E7CA08D46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595D-90C9-4CE7-BC58-52EC5DBB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AD05-B5D9-41DC-9433-6955956A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E58E-3C3B-44BB-81B7-1DD48DEC9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801-8C73-49AC-A47C-D7F0F7FD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6724-BF4F-44FA-87B8-7632FA22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4364-5649-4085-B94B-C5AA7446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2CD3-C8F0-4D21-B384-AF0FD362F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2BA4-C0EC-4A9E-A021-3CB7A9F22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E4EA-2652-4980-B404-8DD298437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4BC7-3559-4205-9CE4-89BC609D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A31-1FF0-4A5A-9565-778A67C8E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C7E8-C90B-4FEF-A19A-C95EC0C1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7A64-4AC4-437A-B99C-995B1E77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6BA8-7D90-4F32-A3E5-A49F6D8F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A5B1-F95A-44A3-81AB-736F3D07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8638-5BFA-4EFE-AE8A-8CE2038B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BED3-99D9-46A1-9AD3-12E6CF78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4929-B62F-4BC7-A4DF-BF91C296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B613-62DC-40DE-BFC5-8DAFA1353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3F9D-3EE8-4C6E-80E3-8569661F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3127-B7E7-46E0-9051-81E34244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C952-57D6-435F-A3B4-71FFBACE7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A97-D93A-4A2E-B585-521C4813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394D-6E6F-479B-A202-1AD0293C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83B4-CAAB-49C3-8A56-AB53E104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9236-0009-4782-97B1-426A3FF0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999E-2D4E-474F-9F3D-4036B6318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C09F-D133-46E0-B651-FDAB1B31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135D-A75F-4040-A64B-20EDB6B5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324-F4B7-4725-BCB2-090A7ECD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EDB-C135-4213-A478-3CFF0D43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8ADC-AA65-4FF1-A486-CB65DED0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A32-448E-44A3-811F-661541A8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8540-CA70-4D8E-B863-1E525A70F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642F-9DC5-4B70-A7CF-1BA91AF86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ADD1-AD30-45ED-A967-CA6D3F0D4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B38A-41F4-4709-BA7D-45400844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4EA-372D-4C38-8881-2AF8DF5D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FCC-33B0-4499-9BE3-78C2FAB7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811-438D-4FF1-A5CB-5B3D7A42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E29-F6AD-4C74-9EE2-18E2325E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918-54EB-4229-8A00-4A43043C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B0F-075D-4780-906B-AE027BFA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E37-D845-47A1-A03A-A4356EF6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200-92A1-4E8B-9498-A143A2E0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D16-7656-454F-8B06-6A4EADAC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E56-EB81-4C93-99B7-CB9C402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4C0-A411-4145-9264-907F9FB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E55-5512-4F6B-A74E-82F9EA7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4D56-B3D2-48D2-A494-0141D667F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" Target="slide160.xml"/><Relationship Id="rId160" Type="http://schemas.openxmlformats.org/officeDocument/2006/relationships/slide" Target="slide161.xml"/><Relationship Id="rId161" Type="http://schemas.openxmlformats.org/officeDocument/2006/relationships/slide" Target="slide162.xml"/><Relationship Id="rId162" Type="http://schemas.openxmlformats.org/officeDocument/2006/relationships/slide" Target="slide163.xml"/><Relationship Id="rId163" Type="http://schemas.openxmlformats.org/officeDocument/2006/relationships/slide" Target="slide164.xml"/><Relationship Id="rId164" Type="http://schemas.openxmlformats.org/officeDocument/2006/relationships/slide" Target="slide165.xml"/><Relationship Id="rId165" Type="http://schemas.openxmlformats.org/officeDocument/2006/relationships/slide" Target="slide166.xml"/><Relationship Id="rId166" Type="http://schemas.openxmlformats.org/officeDocument/2006/relationships/slide" Target="slide167.xml"/><Relationship Id="rId167" Type="http://schemas.openxmlformats.org/officeDocument/2006/relationships/slide" Target="slide168.xml"/><Relationship Id="rId168" Type="http://schemas.openxmlformats.org/officeDocument/2006/relationships/slide" Target="slide169.xml"/><Relationship Id="rId169" Type="http://schemas.openxmlformats.org/officeDocument/2006/relationships/slide" Target="slide170.xml"/><Relationship Id="rId170" Type="http://schemas.openxmlformats.org/officeDocument/2006/relationships/slide" Target="slide171.xml"/><Relationship Id="rId171" Type="http://schemas.openxmlformats.org/officeDocument/2006/relationships/slide" Target="slide172.xml"/><Relationship Id="rId172" Type="http://schemas.openxmlformats.org/officeDocument/2006/relationships/slide" Target="slide173.xml"/><Relationship Id="rId173" Type="http://schemas.openxmlformats.org/officeDocument/2006/relationships/slide" Target="slide174.xml"/><Relationship Id="rId174" Type="http://schemas.openxmlformats.org/officeDocument/2006/relationships/slide" Target="slide175.xml"/><Relationship Id="rId175" Type="http://schemas.openxmlformats.org/officeDocument/2006/relationships/slide" Target="slide176.xml"/><Relationship Id="rId176" Type="http://schemas.openxmlformats.org/officeDocument/2006/relationships/slide" Target="slide177.xml"/><Relationship Id="rId177" Type="http://schemas.openxmlformats.org/officeDocument/2006/relationships/slide" Target="slide178.xml"/><Relationship Id="rId178" Type="http://schemas.openxmlformats.org/officeDocument/2006/relationships/slide" Target="slide179.xml"/><Relationship Id="rId179" Type="http://schemas.openxmlformats.org/officeDocument/2006/relationships/slide" Target="slide180.xml"/><Relationship Id="rId180" Type="http://schemas.openxmlformats.org/officeDocument/2006/relationships/slide" Target="slide181.xml"/><Relationship Id="rId181" Type="http://schemas.openxmlformats.org/officeDocument/2006/relationships/slide" Target="slide182.xml"/><Relationship Id="rId182" Type="http://schemas.openxmlformats.org/officeDocument/2006/relationships/slide" Target="slide183.xml"/><Relationship Id="rId183" Type="http://schemas.openxmlformats.org/officeDocument/2006/relationships/slide" Target="slide184.xml"/><Relationship Id="rId184" Type="http://schemas.openxmlformats.org/officeDocument/2006/relationships/slide" Target="slide185.xml"/><Relationship Id="rId185" Type="http://schemas.openxmlformats.org/officeDocument/2006/relationships/slide" Target="slide186.xml"/><Relationship Id="rId186" Type="http://schemas.openxmlformats.org/officeDocument/2006/relationships/slide" Target="slide187.xml"/><Relationship Id="rId187" Type="http://schemas.openxmlformats.org/officeDocument/2006/relationships/slide" Target="slide188.xml"/><Relationship Id="rId188" Type="http://schemas.openxmlformats.org/officeDocument/2006/relationships/slide" Target="slide189.xml"/><Relationship Id="rId189" Type="http://schemas.openxmlformats.org/officeDocument/2006/relationships/slide" Target="slide190.xml"/><Relationship Id="rId190" Type="http://schemas.openxmlformats.org/officeDocument/2006/relationships/slide" Target="slide191.xml"/><Relationship Id="rId191" Type="http://schemas.openxmlformats.org/officeDocument/2006/relationships/slide" Target="slide192.xml"/><Relationship Id="rId192" Type="http://schemas.openxmlformats.org/officeDocument/2006/relationships/slide" Target="slide193.xml"/><Relationship Id="rId193" Type="http://schemas.openxmlformats.org/officeDocument/2006/relationships/slideLayout" Target="../slideLayouts/slideLayout1.xml"/><Relationship Id="rId19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temperature and rainfall of an area over many year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9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system of 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r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one thousand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ount of space an object takes up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, often in the form of facts and figures, obtained from experiments or survey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9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make distant objects appear larger and near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e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able to be seen throug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a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9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an object that is a measure of the amount of matter an object h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ance an object moves over a given amount of ti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unity of organisms and its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ce where a person or 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4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4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drawing objects together and resisting sepa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ion (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 that feeds on dead organis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ompo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4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6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8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ct of being on fire so as to give off hea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9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the force of gravi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o back to the original shape or size after being stretched, pressed, or squeezed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does not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la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eats other organisms to get energ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giving reasons for information obtained from experi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ility of an organism to stay a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Non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aracteristic that is passed from parent to offspr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ed 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9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6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can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teps, done in a particular order, to answer testable (scientific)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3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all light to pass through, and objects can be clearly see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pushing objects apart and resisting attra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ulsion ( 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4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4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8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77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1" dur="770" fill="hold"/>
                                        <p:tgtEl>
                                          <p:spTgt spid="7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3" dur="77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5" dur="77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how hot or cold some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omething looks, smells, feels, Ex. Color, texture, floating, weight, o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that resists motion between objects that are touch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6" dur="indefinite" restart="never" nodeType="tmRoot">
          <p:childTnLst>
            <p:seq>
              <p:cTn id="1567" dur="indefinite" nodeType="mainSeq">
                <p:childTnLst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towards oneself or the cause of the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ush or a pu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quence of who eats whom in a biological commun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wor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447920" y="2057400"/>
            <a:ext cx="624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or more things are combined, but the things do not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cement, trail mix, sa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x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3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produce a greatly magnified image of an object to small to be seen by the naked ey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1" dur="indefinite" restart="never" nodeType="tmRoot">
          <p:childTnLst>
            <p:seq>
              <p:cTn id="1712" dur="indefinite" nodeType="mainSeq">
                <p:childTnLst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205740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ion that can be answered through an investigation where one part of an experiment is allowed to change and all other parts are kept the s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ble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ount or number of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it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volum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ount of size determined by comparison with a known quant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sic force that attracts all objects to each o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v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lete path along which electricity moves. (closed loo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al circu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that an organism goes through as it grows and matu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thing that has mass and takes up spa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oup of organisms that live together and share resour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ropping of eroded soil and rock pieces in a new pl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si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o measure temperatu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of the size of an object. (length, width, heigh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men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 you can observe about an object that can be used to describe the objec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urn of information about the result of a scientific investigation which modify, correct, or strengthen the invest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se material in which plants can grow in the upper layer of Ear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arth material made up of different ingredients called miner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make their own fo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that takes the shape and volume of its container. Ex. – 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is put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length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s caused by vibrations through a material which can be heard when they reach a person’s or animal’s 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some light to pass, but does not produce detailed imag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uc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that cannot be separated into other kinds of matter by any physical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e sub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away from oneself or the cause of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4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of push and pull between poles of magnet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et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made to organisms to help it meet its n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ment of Earth materials by water, wind, or 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o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atural liquid material made up of hydrogen and oxyg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easurable object, condition, or event, which can be chang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ic Earth material; a rock ingredient that cannot be physically broken down any fur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controlled steps, which can be repeated, for the purpose of answering a testable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gation (Experi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by which rocks are broken down into smaller pie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ayer of air that surrounds Ear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p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5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nd back, for example when light bounces off an object that it does not go throu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1:07:29Z</dcterms:created>
  <dc:creator>Westside Community Schools</dc:creator>
  <dc:description/>
  <dc:language>en-US</dc:language>
  <cp:lastModifiedBy>Mr. Zoubek</cp:lastModifiedBy>
  <dcterms:modified xsi:type="dcterms:W3CDTF">2012-12-31T02:52:21Z</dcterms:modified>
  <cp:revision>9</cp:revision>
  <dc:subject/>
  <dc:title>PowerPoint Presentation</dc:title>
</cp:coreProperties>
</file>