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8C6-8D57-473D-A430-AEF39323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7C5-E973-4D5B-AE50-5A21AD0A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195-D009-489B-8807-D4E775B8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8985-0F4A-4943-8E35-4599FD80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660-57D4-448B-B994-2D916388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B675-0AFB-44B6-9322-EC09858B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B14-519B-4719-B464-0C0ABAB1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CB0C-1F0B-442B-91CE-BB6A79A5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0D6-9B79-4442-B342-D0D42616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399D-85EB-4C69-A6C3-D2B1EC73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243A-84F9-4BA7-ABAC-6F977AF7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01B-B00D-4F5D-9B1A-A6CA3F7B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184-76F1-4C10-8DE7-AC26E706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220-B204-4710-9855-B0F95E98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220-0D57-4F8F-AD38-0470A954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38B-B55B-40FC-9E36-97B3C76C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A5AE-8DAA-4EDA-9C38-7FEC7405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F57-90F6-47AB-B2F3-31DC10583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1B00-CB3C-419A-83D5-9510AD2E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A67-2BDB-494F-B248-46582C51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C5E4-D4B9-4864-A33F-64ED322D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495-E30C-4EEC-B131-BF155CF48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0EAD-6615-482D-A87F-2C6F915D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E5C-E6E7-46EC-94AB-1744342A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635-2A39-4F9F-9222-C9B3450C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A62E-414E-4E7A-A229-8BA8D5E6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2AB-C0AC-45A2-82D4-EFA4391E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F1D4-61D8-4E62-9031-8B3A6586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46C-5917-4D6B-9465-3A19F397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76AE-E07D-4DD1-A449-1BDC33C8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1063-FFC3-4D1E-8751-CD233B60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DAAC-4D74-404B-B222-9FFDC3F0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BA89-A8D5-4737-A668-7B7A1B1C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527-5B52-492D-90B1-A02FEEF8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5D4A-510C-4B8D-8A11-C3CE5674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19E0-ED28-46D9-8BA2-8CC7B84D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3F1-8F50-44F1-912D-A02EE839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E58-5784-480F-B369-CBF5E6ECA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5106-8D0D-421D-8DB3-78993E6C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A6AA-5C76-401A-84FF-1914B2E0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6FD1-DFB0-4A40-B51E-8DF0E9F0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8E6-616C-4ECA-BFF1-981E444B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4E0-123E-4318-996B-47364C00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F9F-8B77-4190-A58F-D1A14E62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21C1-F634-4C41-886B-EFA42F56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586A-02BB-4976-8A83-E8850D1F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769-BCD8-40A3-8255-41DB35DE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1EFC-2B4A-4746-9F00-DFF9A198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4D28-0A04-4453-B191-D7A508C8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6AED-A68C-44A8-9912-3CEA795B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DF80-F364-47A5-A9ED-EBD87AEE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52B4-384B-4DE4-BBDC-144452F2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378-D7B5-4D88-883D-45901448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F46-317D-44FF-BCCF-F73592C3A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DF54-0944-4D04-B239-4428A74B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1AD-055F-47AD-A13C-16B41EE2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2BB-7637-4F51-A7DD-3C38E481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198E-C847-42AB-8658-F855F453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16E-E9E1-4FF4-901D-4F412C2C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2E5B-B979-4B27-9F0F-FBDF6559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778-C46A-4C32-BAE0-FA8CB8CE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BB5-3FEA-42A2-BB9D-8D61E151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C33-7EFE-4A7A-BA1F-BC2DD23B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391F-44E3-490A-8CA6-5CF03A6E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044A-30A3-4486-AFBE-B0C30BAF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36C-FFB8-463D-940F-D140EE24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DE6-2993-493E-A2AA-DB8C7804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C74B-2C49-4CA4-9AC8-EF8AD3EC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FDF8-2098-4207-9C1D-CB2250D1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3C8-78C7-4550-AE2F-9E6C74D7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B67-4B25-4216-B23A-D3EA250B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3952-BA20-4DEF-BE62-13FA18D8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83D8-603B-4F14-A20B-DA4783DD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35ED-9EBC-4A33-9418-2D83D66D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3644-9D65-4664-BBCE-742111D6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594-9D5A-431C-8F54-00ABE5F2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E8F-16A4-4744-BE75-8D4D8E13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4824-87B4-48C0-BAE5-B6EFD677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6BF-5BFA-4308-A490-DEBC6912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195-57EB-4CF2-A540-A6495BCB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4AA0-8847-4A5E-BE4B-13CE0A55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197D-B2DC-47D2-BE4B-9C04A669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19B-A519-4E6E-9452-FCA89FCB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8CB-7481-425F-8A46-266B43A9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070-24DF-4952-A9DC-060DF9A5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9B3-659C-42AC-93BC-A056AD53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00E-210B-45E0-A6C6-B6FDD57B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FB0-A16B-49A5-A84C-62FE5D8D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9C7-C814-4AEF-BB14-F0BC2AD4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D172-2142-4FD7-A4B4-E36190FF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CB84-8166-4CFC-A46F-9653C8FE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FF13-8B27-4D5C-B41B-275FCF2B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28B-21C0-4340-8C1D-0ADC44ED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23E-C13F-4DC9-B7EA-4361BBB8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EEC-CF27-4F39-95BC-5BAE494CC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00D-6CFA-4783-BC7B-1DE9F79A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741-DC22-4B2A-828B-56DC01AD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964-05D8-4B8D-A2EE-FD5EC511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554F-04F4-4D98-B4B5-7F4339BC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B0ED-3E14-44B2-AEA1-1B60E3C7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B359-3B46-484E-A2CD-8DA53552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4B4-A125-4F33-BFDD-D6EF63F4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AFF-8EF2-48BF-9FC2-0EF43E71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597-AB39-460D-AB3B-85201162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FE9E-AF8E-4770-9E86-BAC66DBB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6A0C-C1D8-4C77-80AF-A36B771A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D45-EFB9-4C75-A6D1-19F1F25E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B95-FC24-4961-B220-53FCC7AEA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370-BC59-44D7-8483-7ECBE4F2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D830-09CF-43B4-9EA4-D6607954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966-F27B-4644-AB3C-BC7C233B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7F9E-CBAF-4235-B9D6-48A24D06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AD1-D38D-46CD-A5DE-4892F825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0A5-22F1-4506-BC26-F882A4EF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A78-EDE6-4CD1-91BB-D692A2BC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05C-0B26-4F06-8231-D4568502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0C9-FA78-433E-B1EB-9D725D18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461C-226A-451D-90C4-07FD512A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A89-BA4A-45C9-A889-6147940B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0EC2-48A1-40D1-8D17-3BEC0A79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B46-9233-4615-A67B-989FE752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51E-1FC9-4272-A8D4-C7E51425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88A-A59E-4049-872A-E60E35F0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67E-E308-409E-A2B7-7DC654D5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D4A6-EF70-4A08-8B6D-EB7F32B6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759-0826-408A-A1B1-2895869D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31B-117A-4A9D-9BF1-3FC30918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3E5-40D4-464B-B87F-E19070F4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4C3-295F-4395-96B4-682CCF2A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2CC-F182-4DCA-8ABE-45C79295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F88-4187-46FC-AAEC-E0F13342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AA2-1AAB-4380-8841-C7BCBAD4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E0A-AB6E-47AC-8F6F-15C8FB55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42B1-8BFA-4721-A6AA-5C2E4B0B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1E8-D5FE-4021-A098-3BD6BD8F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6072-5CD3-4F62-980C-AC9A2188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01BB-027C-4A5C-862A-96E892DA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482-2AD8-4050-94B3-BA6F643C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9D80-A7C2-4E75-985D-C5F6B8B9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9DB-22CE-450D-94EF-582BD8A8F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6E1B-04B8-4B11-BBBE-BD33CCC4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64DA-C658-4D7E-917D-01D4D9A5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A83-3228-44DE-9B8D-E335B160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7213-19CE-4F56-BCEE-5B113166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443-AD5C-40AA-9EE1-965113788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7BD-8A7F-4C86-86D4-49B47DAE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C3F-57A9-48F8-AE15-C6D639ED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268-BD7E-4B15-9242-4567261D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C97E-35FA-45E4-B290-9B353DA1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860-5438-443B-9DC9-29780BC7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AC3E-8AD3-4540-BC06-D82946840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9B00-F040-45EB-95EB-C029799A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B75-17DC-48A1-AE2A-34CC400D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6D06-89D7-45EA-ABCE-220FE3B8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3568-435A-4B01-95A0-E9DCD4DF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51A0-4662-4527-AEC8-EFA89B43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6D35-E22D-4962-B8DA-DFDAD163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011-B1DE-477F-ACA6-BD9FE19A2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BEEA-7A96-4381-A0D1-370B5B730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315-3E04-454A-9B62-8CC1D5EF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67CA-8DDF-4D58-BB1A-774C2E4D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D41-9878-486F-A103-04A6E34F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BA93-E656-4B9D-9B91-20456E50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399-BD46-44F9-BF24-13EC9B2A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50FB-529E-400C-A9F7-98BF6191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206-7872-47D3-A556-52CBDFD3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6770-F690-42A0-9316-08044638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902-DEE0-433E-B9DE-9C4421F9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D55-2E14-46A1-912A-D4671BC1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85F-A0CC-499A-A6CD-EB2AD857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C85-A262-4F9F-B52C-8E8A928F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8632-0E0F-4EDF-ABBE-424B980D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8B2-98F8-4C73-B2DD-66C1ED29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5A6-E916-4DED-94E8-1DFF52BE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3AB-EF16-427F-9446-82792B56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67E4-042B-4FE5-89D4-6F6614B2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78F-93D4-4ABE-ACF4-D21E7C23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257E-A0D6-46FF-B5FE-E9F5E1E4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53E-1A5F-45D2-B134-A845EAA1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D4B-93C0-44A8-9EAE-997D2437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BF7-9222-4C37-A184-13F7483D1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E15-87EB-457C-AA7A-6914090B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2A2-FE6E-4E16-97C8-B332B228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685-B3CC-4ADC-A7C4-3BE2EA14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342-216A-47D7-B00D-694D5DB0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BE3-472B-4CED-A71F-3E9EED02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1AE-7F7D-4B6D-8B55-9627D89C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A0A-3057-4305-9D07-905F0D43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641-F3E6-4D9C-8105-35C37A49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A0CB-8F45-40EF-9FA9-AB9DAE8C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C33-B6F5-44F9-97A3-771F8FF5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79B9-89D2-4219-A9A0-D1C58DE3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64A-0A61-4F80-94DC-869D7B8CA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DD8-AB68-44C6-ACC4-546C5DCC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230-6216-479B-B1E9-92D24D84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334-6F3B-4955-98C5-B524346D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A1E-A453-4328-B490-361B1F0C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790-D315-41FD-9A4B-3ADDF570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739-601E-4E3D-B51F-24205B2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D4C-EC4A-48B0-9AA0-39715FDC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03B-0BE4-45D9-B1D6-EF8C3416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068-09D5-4F7B-A9B2-7290537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948-3F37-49BC-B1DA-0F32FF6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89B-8DA5-4A66-B08B-0C742F1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401-6D22-4FA6-BCD2-E589035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DA6-9766-428D-A5C7-33D4EC6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0C8-D945-427F-9594-467AC9A6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8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77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8" dur="770" fill="hold"/>
                                        <p:tgtEl>
                                          <p:spTgt spid="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0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2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0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1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7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5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