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32F-8F06-4D51-8742-EDDFB2F7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562-DCE2-442D-A74C-D66DCBF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895-A5A0-492C-97E8-FFE97B9B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169-BB8F-42A3-AB89-1A3FAC97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F24-9AA9-4A7B-9615-21FEBCD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A36-62BB-40F6-9F73-1BA81AE0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E2D-3C87-4AC7-AF3F-AE974F2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1D3-74E5-4863-A4DC-FFA49DE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3F2-3102-414C-AF5E-B2590701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E8B-CDD6-4B38-BDEE-FD592B0F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90C-71FB-4AEC-87A9-06EE509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47C-14A4-4B35-9A24-88F38A3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B839-8583-4E93-81A6-CB6965FD4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324840" cy="3108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384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WordArt 144"/>
          <p:cNvSpPr txBox="1"/>
          <p:nvPr/>
        </p:nvSpPr>
        <p:spPr>
          <a:xfrm>
            <a:off x="1752480" y="30492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toJ Quizzes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5105520"/>
          <a:ext cx="6248520" cy="1125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quewatr 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hjsdfsad   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41:00Z</dcterms:created>
  <dc:creator>St. Mary's High School</dc:creator>
  <dc:description/>
  <dc:language>en-US</dc:language>
  <cp:lastModifiedBy>Lenny Vermaas</cp:lastModifiedBy>
  <dcterms:modified xsi:type="dcterms:W3CDTF">2009-06-15T16:55:49Z</dcterms:modified>
  <cp:revision>12</cp:revision>
  <dc:subject/>
  <dc:title>Slide 1</dc:title>
</cp:coreProperties>
</file>