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24BA-85E9-4805-8CB5-911615D1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F6A-8B14-494A-A491-8AF7DB57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A6A-20C1-49C6-9777-42D9E171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6CC2-FEC5-4E4E-8352-73C90256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066-750A-4B1A-BB8F-9FC4D73F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678-FDAD-4075-A3A0-3CE1C058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CA93-E3FF-44DA-8FF7-A57DE853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456-30A0-48FC-9D82-4FAEE8F5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21D-AF63-434E-91A2-42BE0CA6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19FF-0666-4F37-AD3B-B882A394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D458-D032-429B-AD78-C9BDE938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AAA-E7F6-471D-9EE5-87C6C387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85D5-75B2-4F4D-A2D8-D16488A13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7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0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324840" cy="310824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8384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 action="ppaction://hlinksldjump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 action="ppaction://hlinksldjump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 action="ppaction://hlinksldjump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1" action="ppaction://hlinksldjump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3" action="ppaction://hlinksldjump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 action="ppaction://hlinksldjump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 action="ppaction://hlinksldjump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 action="ppaction://hlinksldjump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 action="ppaction://hlinksldjump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WordArt 144"/>
          <p:cNvSpPr txBox="1"/>
          <p:nvPr/>
        </p:nvSpPr>
        <p:spPr>
          <a:xfrm>
            <a:off x="1752480" y="304920"/>
            <a:ext cx="5943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toJ Quizzes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5105520"/>
          <a:ext cx="6248520" cy="1125360"/>
        </p:xfrm>
        <a:graphic>
          <a:graphicData uri="http://schemas.openxmlformats.org/drawingml/2006/table">
            <a:tbl>
              <a:tblPr/>
              <a:tblGrid>
                <a:gridCol w="625680"/>
                <a:gridCol w="623880"/>
                <a:gridCol w="625320"/>
                <a:gridCol w="623880"/>
                <a:gridCol w="625680"/>
                <a:gridCol w="625320"/>
                <a:gridCol w="623880"/>
                <a:gridCol w="625680"/>
                <a:gridCol w="623880"/>
                <a:gridCol w="6253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 action="ppaction://hlinksldjump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 action="ppaction://hlinksldjump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 action="ppaction://hlinksldjump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 action="ppaction://hlinksldjump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 action="ppaction://hlinksldjump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 action="ppaction://hlinksldjump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 action="ppaction://hlinksldjump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 action="ppaction://hlinksldjump"/>
                        </a:rPr>
                        <a:t>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 action="ppaction://hlinksldjump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 action="ppaction://hlinksldjump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 action="ppaction://hlinksldjump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 action="ppaction://hlinksldjump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 action="ppaction://hlinksldjump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 action="ppaction://hlinksldjump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 action="ppaction://hlinksldjump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 action="ppaction://hlinksldjump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 action="ppaction://hlinksldjump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 action="ppaction://hlinksldjump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 action="ppaction://hlinksldjump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quewatr 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hjsdfsad   answ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2:41:00Z</dcterms:created>
  <dc:creator>St. Mary's High School</dc:creator>
  <dc:description/>
  <dc:language>en-US</dc:language>
  <cp:lastModifiedBy>Lenny Vermaas</cp:lastModifiedBy>
  <dcterms:modified xsi:type="dcterms:W3CDTF">2009-06-15T16:55:49Z</dcterms:modified>
  <cp:revision>12</cp:revision>
  <dc:subject/>
  <dc:title>Slide 1</dc:title>
</cp:coreProperties>
</file>