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F49-A20D-4CD5-867E-79D5041D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2FF-A3B9-4CEC-9DFC-8742CCEF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EB9-2249-445D-906F-51EF05D4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015-33FC-4930-A04E-D6A0689E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EBA-DE03-4279-8974-62A687E4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FD6-5AC2-459F-8C7E-B2E02122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4AB-2BCC-478F-A0EB-39C2AD6C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D88-B015-4F4C-8004-EC7AEE3C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A6A-5826-42A6-8AC4-C9D81CE3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370-F670-47A1-B1C9-F2FE89D4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703-BE83-472B-A6AA-BAFE7388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A77-E9EA-44B2-8D2D-FA9BD27C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4C4-0311-4BD5-A152-4F739763E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1704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9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9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8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77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5" dur="770" fill="hold"/>
                                        <p:tgtEl>
                                          <p:spTgt spid="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7" dur="77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9" dur="77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2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8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1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4" dur="4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4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4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9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15:11Z</dcterms:created>
  <dc:creator>Westside Community Schools</dc:creator>
  <dc:description/>
  <dc:language>en-US</dc:language>
  <cp:lastModifiedBy>Lenny VerMaas</cp:lastModifiedBy>
  <dcterms:modified xsi:type="dcterms:W3CDTF">2008-10-14T18:26:31Z</dcterms:modified>
  <cp:revision>4</cp:revision>
  <dc:subject/>
  <dc:title>PowerPoint Presentation</dc:title>
</cp:coreProperties>
</file>