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E30-8212-4195-B678-130DBA1F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F17-2527-469B-AAEF-1D083F3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00F-F540-4DBB-90A6-25CC4B15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E4D-D709-4AA5-B34E-8BE83707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2DF3-7C72-4B42-BE6E-58EC54EC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BD7-BA42-40D1-8B02-71F61663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C19B-35C3-4933-9AB0-E0DA2867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E5B2-B7AC-4B88-AAFD-F0167C17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040D-527E-4A89-906B-5BF73FDE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741E-178A-4811-A29F-010B27C7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9373-1DF5-406B-AFBB-BB8B579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077-54AE-494A-8E54-0F3584B5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1CF6-C9B5-4086-A2BB-FB5FE1D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449F-3BEC-49A4-A811-D5048FD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79A4-4EB8-494E-8EC5-2074529F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C1DB-39EB-4F57-BA3A-D96AEDBF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9ED9-41B8-48F6-AFF3-AC09304D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E7E-B6A3-4AF9-812D-920D5CC7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B47-B061-4C1A-A1C3-55730197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41E-786A-4357-8388-4B4EF84E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40B-950F-4B1C-9989-DFA78E0F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A0A-DB94-4657-94F2-70EB32D2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F90-21F4-4D08-BAED-0CC1E37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122-54C7-4EF6-986E-1261BCE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242-9BFE-488A-8E46-444DF8480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FEC9-921B-4E8B-B004-45BA7D9D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" Target="slide3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1.xml"/><Relationship Id="rId11" Type="http://schemas.openxmlformats.org/officeDocument/2006/relationships/slide" Target="slide28.xml"/><Relationship Id="rId12" Type="http://schemas.openxmlformats.org/officeDocument/2006/relationships/slide" Target="slide35.xml"/><Relationship Id="rId13" Type="http://schemas.openxmlformats.org/officeDocument/2006/relationships/slide" Target="slide41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2.xml"/><Relationship Id="rId18" Type="http://schemas.openxmlformats.org/officeDocument/2006/relationships/slide" Target="slide29.xml"/><Relationship Id="rId19" Type="http://schemas.openxmlformats.org/officeDocument/2006/relationships/slide" Target="slide36.xml"/><Relationship Id="rId20" Type="http://schemas.openxmlformats.org/officeDocument/2006/relationships/slide" Target="slide6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3.xml"/><Relationship Id="rId24" Type="http://schemas.openxmlformats.org/officeDocument/2006/relationships/slide" Target="slide30.xml"/><Relationship Id="rId25" Type="http://schemas.openxmlformats.org/officeDocument/2006/relationships/slide" Target="slide37.xml"/><Relationship Id="rId26" Type="http://schemas.openxmlformats.org/officeDocument/2006/relationships/slide" Target="slide42.xml"/><Relationship Id="rId27" Type="http://schemas.openxmlformats.org/officeDocument/2006/relationships/slide" Target="slide7.xml"/><Relationship Id="rId28" Type="http://schemas.openxmlformats.org/officeDocument/2006/relationships/slide" Target="slide12.xml"/><Relationship Id="rId29" Type="http://schemas.openxmlformats.org/officeDocument/2006/relationships/slide" Target="slide17.xml"/><Relationship Id="rId30" Type="http://schemas.openxmlformats.org/officeDocument/2006/relationships/slide" Target="slide24.xml"/><Relationship Id="rId31" Type="http://schemas.openxmlformats.org/officeDocument/2006/relationships/slide" Target="slide31.xml"/><Relationship Id="rId32" Type="http://schemas.openxmlformats.org/officeDocument/2006/relationships/slide" Target="slide38.xml"/><Relationship Id="rId33" Type="http://schemas.openxmlformats.org/officeDocument/2006/relationships/slide" Target="slide18.xml"/><Relationship Id="rId34" Type="http://schemas.openxmlformats.org/officeDocument/2006/relationships/slide" Target="slide25.xml"/><Relationship Id="rId35" Type="http://schemas.openxmlformats.org/officeDocument/2006/relationships/slide" Target="slide32.xml"/><Relationship Id="rId36" Type="http://schemas.openxmlformats.org/officeDocument/2006/relationships/slide" Target="slide39.xml"/><Relationship Id="rId37" Type="http://schemas.openxmlformats.org/officeDocument/2006/relationships/slide" Target="slide19.xml"/><Relationship Id="rId38" Type="http://schemas.openxmlformats.org/officeDocument/2006/relationships/slide" Target="slide26.xml"/><Relationship Id="rId39" Type="http://schemas.openxmlformats.org/officeDocument/2006/relationships/slide" Target="slide33.xml"/><Relationship Id="rId40" Type="http://schemas.openxmlformats.org/officeDocument/2006/relationships/slide" Target="slide40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ading &amp; Writing Term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tierr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a looked clear as a bell the day we went sai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343400" y="594360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400800" y="5867280"/>
            <a:ext cx="160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419720" y="5791320"/>
            <a:ext cx="449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400800" y="601992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nversation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743200" y="60199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1143000"/>
            <a:ext cx="891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1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2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#32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1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2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3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#3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4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5" action="ppaction://hlinksldjump"/>
              </a:rPr>
              <a:t>8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6" action="ppaction://hlinksldjump"/>
              </a:rPr>
              <a:t>1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7" action="ppaction://hlinksldjump"/>
              </a:rPr>
              <a:t>2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8" action="ppaction://hlinksldjump"/>
              </a:rPr>
              <a:t>2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9" action="ppaction://hlinksldjump"/>
              </a:rPr>
              <a:t>#34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0" action="ppaction://hlinksldjump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1" action="ppaction://hlinksldjump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2" action="ppaction://hlinksldjump"/>
              </a:rPr>
              <a:t>1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3" action="ppaction://hlinksldjump"/>
              </a:rPr>
              <a:t>2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4" action="ppaction://hlinksldjump"/>
              </a:rPr>
              <a:t>2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5" action="ppaction://hlinksldjump"/>
              </a:rPr>
              <a:t>3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6" action="ppaction://hlinksldjump"/>
              </a:rPr>
              <a:t>#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7" action="ppaction://hlinksldjump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8" action="ppaction://hlinksldjump"/>
              </a:rPr>
              <a:t>1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9" action="ppaction://hlinksldjump"/>
              </a:rPr>
              <a:t>1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0" action="ppaction://hlinksldjump"/>
              </a:rPr>
              <a:t>2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1" action="ppaction://hlinksldjump"/>
              </a:rPr>
              <a:t>2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2" action="ppaction://hlinksldjump"/>
              </a:rPr>
              <a:t>#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3" action="ppaction://hlinksldjump"/>
              </a:rPr>
              <a:t>1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4" action="ppaction://hlinksldjump"/>
              </a:rPr>
              <a:t>2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5" action="ppaction://hlinksldjump"/>
              </a:rPr>
              <a:t>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6" action="ppaction://hlinksldjump"/>
              </a:rPr>
              <a:t>#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7" action="ppaction://hlinksldjump"/>
              </a:rPr>
              <a:t>1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8" action="ppaction://hlinksldjump"/>
              </a:rPr>
              <a:t>2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9" action="ppaction://hlinksldjump"/>
              </a:rPr>
              <a:t>3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0" action="ppaction://hlinksldjump"/>
              </a:rPr>
              <a:t>#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09680" y="3049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iz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hort non-fiction work that deals with one subject.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629400" y="586728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middle.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simi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metaph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hyperb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4 examples of common conflicts found in literatu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lliter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f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plot outl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2193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2743200" y="35812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4343400" y="35812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2578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33520" y="4038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9"/>
          <p:cNvSpPr/>
          <p:nvPr/>
        </p:nvSpPr>
        <p:spPr>
          <a:xfrm flipH="1" flipV="1">
            <a:off x="3352320" y="4495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4495680" y="441936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6171840" y="3733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5812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464832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505320" y="304812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5638680" y="5486400"/>
            <a:ext cx="198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e two short stories that we’ve read this year and state their the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248520" y="5715000"/>
            <a:ext cx="251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ea looked clear as a bell the day we went sa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tory of someone’s life written by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ctitious story.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onversation between charac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etting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5486400"/>
            <a:ext cx="137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hort non-fiction work that deals with on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 the middle.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563868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m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st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38080" y="2697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upporting deta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cluding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ctionary – word spellings, part of speech, pronunciations, 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saurus – words, synonyms, antony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las – maps of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cyclopedia – A comprehensive reference work containing articles on a wide range of subjects or on numerous aspects of a particular field, usually arranged alphabetical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553080" y="601992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4:54Z</dcterms:created>
  <dc:creator>cgutierrez</dc:creator>
  <dc:description/>
  <dc:language>en-US</dc:language>
  <cp:lastModifiedBy>Mr. Zoubek</cp:lastModifiedBy>
  <dcterms:modified xsi:type="dcterms:W3CDTF">2012-12-12T20:23:35Z</dcterms:modified>
  <cp:revision>19</cp:revision>
  <dc:subject/>
  <dc:title>Reading &amp; Writing Terms to Know</dc:title>
</cp:coreProperties>
</file>