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C9B-6940-42BE-A9D3-52B0E01F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5F9-C5E4-4FFD-B1FE-864029B8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F3D-7DFD-435E-8AB4-6EA6F8D8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8BD-4C47-4F37-A6DC-CEF423F8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3C54-E280-4B24-A1F0-2E84120F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A4B5-9123-4F18-9E13-350DDA6D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E154-976F-410A-80B8-CE7D41EE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E1A2-B164-47FF-BD8E-3958397F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BD0E-CA96-468B-AF86-02A39C5F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79FB-11AC-41F4-B78A-D2AB56BE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C693-0E9A-4C08-BA7D-068585E8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D75-4DFC-4A65-A53C-4F082CD5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E987-2762-4BDC-BDDF-67CA975E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D89A-1590-49DA-B444-17BA1F87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055B-6637-4268-9BF3-1AB77EC8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13FC-AF3C-4A64-BF29-FA688D60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4E1C-CBD4-431C-89B9-B9ABF1E7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820-0919-46AE-BAC6-6703D1F8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A91-6406-4D3E-9031-8F06FC23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6EC-4ADB-4D2B-BC33-F14D8F7B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6C8-BD1F-4A3B-993B-34300EF7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CAC-1FB5-403E-BBCF-FD28502B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9BC-29E8-4679-9631-9232ADA8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FCD-9C23-4250-A72F-701E9418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8AFA-1F6E-4561-9492-332B3A22F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9791-FE5A-44CA-8956-A3386AFE8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20.xml"/><Relationship Id="rId5" Type="http://schemas.openxmlformats.org/officeDocument/2006/relationships/slide" Target="slide27.xml"/><Relationship Id="rId6" Type="http://schemas.openxmlformats.org/officeDocument/2006/relationships/slide" Target="slide34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21.xml"/><Relationship Id="rId11" Type="http://schemas.openxmlformats.org/officeDocument/2006/relationships/slide" Target="slide28.xml"/><Relationship Id="rId12" Type="http://schemas.openxmlformats.org/officeDocument/2006/relationships/slide" Target="slide35.xml"/><Relationship Id="rId13" Type="http://schemas.openxmlformats.org/officeDocument/2006/relationships/slide" Target="slide41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2.xml"/><Relationship Id="rId18" Type="http://schemas.openxmlformats.org/officeDocument/2006/relationships/slide" Target="slide29.xml"/><Relationship Id="rId19" Type="http://schemas.openxmlformats.org/officeDocument/2006/relationships/slide" Target="slide36.xml"/><Relationship Id="rId20" Type="http://schemas.openxmlformats.org/officeDocument/2006/relationships/slide" Target="slide6.xml"/><Relationship Id="rId21" Type="http://schemas.openxmlformats.org/officeDocument/2006/relationships/slide" Target="slide11.xml"/><Relationship Id="rId22" Type="http://schemas.openxmlformats.org/officeDocument/2006/relationships/slide" Target="slide16.xml"/><Relationship Id="rId23" Type="http://schemas.openxmlformats.org/officeDocument/2006/relationships/slide" Target="slide23.xml"/><Relationship Id="rId24" Type="http://schemas.openxmlformats.org/officeDocument/2006/relationships/slide" Target="slide30.xml"/><Relationship Id="rId25" Type="http://schemas.openxmlformats.org/officeDocument/2006/relationships/slide" Target="slide37.xml"/><Relationship Id="rId26" Type="http://schemas.openxmlformats.org/officeDocument/2006/relationships/slide" Target="slide42.xml"/><Relationship Id="rId27" Type="http://schemas.openxmlformats.org/officeDocument/2006/relationships/slide" Target="slide7.xml"/><Relationship Id="rId28" Type="http://schemas.openxmlformats.org/officeDocument/2006/relationships/slide" Target="slide12.xml"/><Relationship Id="rId29" Type="http://schemas.openxmlformats.org/officeDocument/2006/relationships/slide" Target="slide17.xml"/><Relationship Id="rId30" Type="http://schemas.openxmlformats.org/officeDocument/2006/relationships/slide" Target="slide24.xml"/><Relationship Id="rId31" Type="http://schemas.openxmlformats.org/officeDocument/2006/relationships/slide" Target="slide31.xml"/><Relationship Id="rId32" Type="http://schemas.openxmlformats.org/officeDocument/2006/relationships/slide" Target="slide38.xml"/><Relationship Id="rId33" Type="http://schemas.openxmlformats.org/officeDocument/2006/relationships/slide" Target="slide18.xml"/><Relationship Id="rId34" Type="http://schemas.openxmlformats.org/officeDocument/2006/relationships/slide" Target="slide25.xml"/><Relationship Id="rId35" Type="http://schemas.openxmlformats.org/officeDocument/2006/relationships/slide" Target="slide32.xml"/><Relationship Id="rId36" Type="http://schemas.openxmlformats.org/officeDocument/2006/relationships/slide" Target="slide39.xml"/><Relationship Id="rId37" Type="http://schemas.openxmlformats.org/officeDocument/2006/relationships/slide" Target="slide19.xml"/><Relationship Id="rId38" Type="http://schemas.openxmlformats.org/officeDocument/2006/relationships/slide" Target="slide26.xml"/><Relationship Id="rId39" Type="http://schemas.openxmlformats.org/officeDocument/2006/relationships/slide" Target="slide33.xml"/><Relationship Id="rId40" Type="http://schemas.openxmlformats.org/officeDocument/2006/relationships/slide" Target="slide40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ading &amp; Writing Terms to Kno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tierr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fe is just a bowl of cher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a looked clear as a bell the day we went sail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ittany thinks Bob is a stuffed shir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dice is so skinny she has to run around in the shower to get w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343400" y="5943600"/>
            <a:ext cx="2971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400800" y="5867280"/>
            <a:ext cx="160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uto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419720" y="5791320"/>
            <a:ext cx="4495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400800" y="6019920"/>
            <a:ext cx="2743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we read a story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lima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nclus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urning point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olu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troduc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alog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story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he character is thin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nversation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thing that do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quotation marks around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743200" y="6019920"/>
            <a:ext cx="5181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quence of events in a story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shadow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logue between characters in a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lot out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telling of the story including the title, author and type of literat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fer to time, place, mood or atmosphere in a work of literature, we are referring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non-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myth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short sto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riter’s attitude toward the subje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versal message about life or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ial way a writer reveals his ideas.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1143000"/>
            <a:ext cx="89154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1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1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2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#32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1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1" action="ppaction://hlinksldjump"/>
              </a:rPr>
              <a:t>2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2" action="ppaction://hlinksldjump"/>
              </a:rPr>
              <a:t>3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3" action="ppaction://hlinksldjump"/>
              </a:rPr>
              <a:t>#3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4" action="ppaction://hlinksldjump"/>
              </a:rPr>
              <a:t>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5" action="ppaction://hlinksldjump"/>
              </a:rPr>
              <a:t>8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6" action="ppaction://hlinksldjump"/>
              </a:rPr>
              <a:t>13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7" action="ppaction://hlinksldjump"/>
              </a:rPr>
              <a:t>20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8" action="ppaction://hlinksldjump"/>
              </a:rPr>
              <a:t>2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9" action="ppaction://hlinksldjump"/>
              </a:rPr>
              <a:t>#34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0" action="ppaction://hlinksldjump"/>
              </a:rPr>
              <a:t>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1" action="ppaction://hlinksldjump"/>
              </a:rPr>
              <a:t>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2" action="ppaction://hlinksldjump"/>
              </a:rPr>
              <a:t>1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3" action="ppaction://hlinksldjump"/>
              </a:rPr>
              <a:t>2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4" action="ppaction://hlinksldjump"/>
              </a:rPr>
              <a:t>2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5" action="ppaction://hlinksldjump"/>
              </a:rPr>
              <a:t>3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6" action="ppaction://hlinksldjump"/>
              </a:rPr>
              <a:t>#4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7" action="ppaction://hlinksldjump"/>
              </a:rPr>
              <a:t>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8" action="ppaction://hlinksldjump"/>
              </a:rPr>
              <a:t>1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9" action="ppaction://hlinksldjump"/>
              </a:rPr>
              <a:t>1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0" action="ppaction://hlinksldjump"/>
              </a:rPr>
              <a:t>2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1" action="ppaction://hlinksldjump"/>
              </a:rPr>
              <a:t>2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2" action="ppaction://hlinksldjump"/>
              </a:rPr>
              <a:t>#3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3" action="ppaction://hlinksldjump"/>
              </a:rPr>
              <a:t>1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4" action="ppaction://hlinksldjump"/>
              </a:rPr>
              <a:t>2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5" action="ppaction://hlinksldjump"/>
              </a:rPr>
              <a:t>30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6" action="ppaction://hlinksldjump"/>
              </a:rPr>
              <a:t>#3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7" action="ppaction://hlinksldjump"/>
              </a:rPr>
              <a:t>1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8" action="ppaction://hlinksldjump"/>
              </a:rPr>
              <a:t>2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9" action="ppaction://hlinksldjump"/>
              </a:rPr>
              <a:t>3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40" action="ppaction://hlinksldjump"/>
              </a:rPr>
              <a:t>#3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209680" y="30492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iz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elling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in character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hat the story is ab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d guy.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s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ong paper that deals with several subje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ways fiction and can be any leng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ally boring paper that you write in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hort non-fiction work that deals with one subject.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629400" y="5867280"/>
            <a:ext cx="2133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rt o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riting proc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writing/brainstor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/revi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y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gh dra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draft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no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ading strate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erencing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literature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based on real things that have actually happe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n-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riting that deals with real people, events and places without changing any fa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something tha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pin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merely something that someone thinks.  I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ually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important sentence in a paragraph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tails/suppor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 g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e 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begin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here, they aren’t necess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middle.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rprise e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group of lines that form a unit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parison of two th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petition of initial consonant sounds in a line of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luding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la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fir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in the midd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off-topic.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in ide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what a paragraph or passage is about over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me, place or m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logue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blem or struggle for the main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essage about life and being human.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 simil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 metaph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hyperbol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 4 examples of common conflicts found in literatur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lliter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 the following words in alphabetical ord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f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te the following plot outlin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12193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5"/>
          <p:cNvSpPr/>
          <p:nvPr/>
        </p:nvSpPr>
        <p:spPr>
          <a:xfrm flipV="1">
            <a:off x="2743200" y="358128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4343400" y="3581280"/>
            <a:ext cx="9144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52578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33520" y="40384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9"/>
          <p:cNvSpPr/>
          <p:nvPr/>
        </p:nvSpPr>
        <p:spPr>
          <a:xfrm flipH="1" flipV="1">
            <a:off x="3352320" y="44956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4495680" y="441936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1"/>
          <p:cNvSpPr/>
          <p:nvPr/>
        </p:nvSpPr>
        <p:spPr>
          <a:xfrm flipH="1">
            <a:off x="6171840" y="37339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358128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3"/>
          <p:cNvSpPr/>
          <p:nvPr/>
        </p:nvSpPr>
        <p:spPr>
          <a:xfrm flipH="1">
            <a:off x="4648320" y="25909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3505320" y="3048120"/>
            <a:ext cx="146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5638680" y="5486400"/>
            <a:ext cx="198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figure of spe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gives animals and ideas human qua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that have something in comm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not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down 3 important parts to every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e two short stories that we’ve read this year and state their the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 4 references (dictionary, thesaurus, etc.) that we’ve learned about this year and tell what you can find in ea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rprise e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group of lines that form a unit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parison of two th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petition of initial consonant sounds in a line of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figure of spe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gives animals and ideas human qua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that have something in comm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ompares two things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not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compares two thing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ing the words “like” or “as”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etaph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an exaggeration is used for emphasis or humor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o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ory im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mbolism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peat consonant sounds at the beginning of two or more words in literature it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o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othy is a rat for telling on S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brother drives like a mania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rty dishes stared at me from the sin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rah’s eyes are like twinkling sta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the sound of the word is suggestive of its mea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nomatopoe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m   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compares two thing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ing the words “like” or “as”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ph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248520" y="5715000"/>
            <a:ext cx="251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fe is just a bowl of cherr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ea looked clear as a bell the day we went sail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ttany thinks Bob is a stuffed shir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dice is so skinny she has to run around in the shower to get w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uto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iograph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tory of someone’s life written by someone el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ctitious story.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we read a story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lima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nclus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turning point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olu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troduc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alog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story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the character is thin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conversation between charac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thing that doe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ve quotation marks around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quence of events in a story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shadowing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logue between characters in a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lot out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retelling of the story including the title, author and type of literat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fer to time, place, mood or atmosphere in a work of literature, we are referring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etting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 extended (long) work of 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non-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myth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short sto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riter’s attitude toward the subje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universal message about life or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ial way a writer reveals his ideas. 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an exaggeration is used for emphasis or humor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o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ory im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mbolism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553080" y="5486400"/>
            <a:ext cx="1371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erson telling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in character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hat the story is ab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d gu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ss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ng paper that deals with several su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 fiction and can be any lengt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ally boring paper that you write in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hort non-fiction work that deals with one su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rt o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riting proc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writing/brainstor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/revi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py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gh dra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draft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no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ading strate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erencing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literature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based on real things that have actually happe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n-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riting that deals with real people, events and places without changing any fa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something tha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lse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pin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merely something that someone thinks.  I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ually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fir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important sentence in a paragraph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tails/suppor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 g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e 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begin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here, they aren’t necess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 the middle.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peat consonant sounds at the beginning of two or more words in literature it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o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400800" y="5638680"/>
            <a:ext cx="2057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luding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e the la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fir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in the midd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off-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ain id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hat a paragraph or passage is about over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me, place or m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logue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roblem or struggle for the main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essage about life and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t the following words in alphabetical ord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a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mp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stif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y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38080" y="269712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down 3 important parts to every paragraph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opic sent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upporting detai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cluding sent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4 references (dictionary, thesaurus, etc.) that we’ve learned about this year and tell what you can find in ea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ctionary – word spellings, part of speech, pronunciations, defin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saurus – words, synonyms, antony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las – maps of the wor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cyclopedia – A comprehensive reference work containing articles on a wide range of subjects or on numerous aspects of a particular field, usually arranged alphabetical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othy is a rat for telling on S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brother drives like a mania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rty dishes stared at me from the sin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rah’s eyes are like twinkling stars.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the sound of the word is suggestive of its mea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omatopoe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m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553080" y="6019920"/>
            <a:ext cx="1905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6:44:54Z</dcterms:created>
  <dc:creator>cgutierrez</dc:creator>
  <dc:description/>
  <dc:language>en-US</dc:language>
  <cp:lastModifiedBy>Mr. Zoubek</cp:lastModifiedBy>
  <dcterms:modified xsi:type="dcterms:W3CDTF">2012-12-12T20:23:35Z</dcterms:modified>
  <cp:revision>19</cp:revision>
  <dc:subject/>
  <dc:title>Reading &amp; Writing Terms to Know</dc:title>
</cp:coreProperties>
</file>