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3D9-8F1D-4FB4-B0E6-481CBF13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856-D8FE-43FC-B0DE-FD046BAA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154-3EF6-4D2C-BBF5-D87886F5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336-D27C-4E53-BAA0-AC377CFA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779-483E-4673-8912-F8243743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FB0-8472-4C88-8127-3421965D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BAE-8583-4FC7-B56F-3995A3C1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BEE-3388-4F21-8247-EA32714D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A6C-3DF1-4ABA-9598-F5EC9BB0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F34-F3FC-464B-BE76-129CB68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639-DA4B-491B-8133-65D25FD2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2A0-72D7-4F9E-B201-819AF764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594B-3290-4A64-9627-BA0F3B235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2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6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gr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sential lear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611640" y="2819520"/>
            <a:ext cx="3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535680" y="4495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122148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1221480" y="45720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198324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2059560" y="46483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282168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2821680" y="47242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388836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396468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710600" y="3084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47264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541224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54122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617436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1" action="ppaction://hlinksldjump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2" action="ppaction://hlinksldjump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3" action="ppaction://hlinksldjump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4" action="ppaction://hlinksldjump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5" action="ppaction://hlinksldjump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617436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6" action="ppaction://hlinksldjump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7" action="ppaction://hlinksldjump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8" action="ppaction://hlinksldjump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9" action="ppaction://hlinksldjump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0" action="ppaction://hlinksldjump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1"/>
          <p:cNvSpPr/>
          <p:nvPr/>
        </p:nvSpPr>
        <p:spPr>
          <a:xfrm>
            <a:off x="6996600" y="300816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1" action="ppaction://hlinksldjump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2" action="ppaction://hlinksldjump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3" action="ppaction://hlinksldjump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4" action="ppaction://hlinksldjump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5" action="ppaction://hlinksldjump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7072920" y="4684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6" action="ppaction://hlinksldjump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7" action="ppaction://hlinksldjump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8" action="ppaction://hlinksldjump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9" action="ppaction://hlinksldjump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0" action="ppaction://hlinksldjump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7758720" y="29322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1" action="ppaction://hlinksldjump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2" action="ppaction://hlinksldjump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3" action="ppaction://hlinksldjump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4" action="ppaction://hlinksldjump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5" action="ppaction://hlinksldjump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7911360" y="4608360"/>
            <a:ext cx="56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6" action="ppaction://hlinksldjump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7" action="ppaction://hlinksldjump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8" action="ppaction://hlinksldjump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9" action="ppaction://hlinksldjump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58:16Z</dcterms:created>
  <dc:creator>Owner</dc:creator>
  <dc:description/>
  <dc:language>en-US</dc:language>
  <cp:lastModifiedBy>Lenny VerMaas</cp:lastModifiedBy>
  <dcterms:modified xsi:type="dcterms:W3CDTF">2008-10-14T18:30:06Z</dcterms:modified>
  <cp:revision>4</cp:revision>
  <dc:subject/>
  <dc:title>Geometry essential learning skills</dc:title>
</cp:coreProperties>
</file>