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FF3-B5D9-44A8-9A4C-2BC549E6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EF7-B92E-40EB-8E2C-92A218EC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F48-0F92-4B5F-9770-03C20895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83E-F842-4CBA-A687-D36F1240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92E-DB38-443F-8A90-EE3B7401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2CF-BD20-431E-ABAB-3F6B93FF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A35-F63E-4093-9597-0E3DCF4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6D7-0295-4319-96FC-2E9B5679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41D-315E-4EF5-9F15-C594871E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62D-E7E3-495D-B225-2B36D31F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2D7-A165-489E-8161-62B42F17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29B-529C-4E5F-A658-9273CCE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0F0E-55DB-4458-AB5E-8CFF9CBB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2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6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gr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sential lear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611640" y="2819520"/>
            <a:ext cx="3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535680" y="4495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22148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221480" y="45720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98324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2059560" y="46483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282168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2821680" y="47242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388836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396468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710600" y="3084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7264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541224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54122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617436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1" action="ppaction://hlinksldjump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2" action="ppaction://hlinksldjump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3" action="ppaction://hlinksldjump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4" action="ppaction://hlinksldjump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5" action="ppaction://hlinksldjump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617436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6" action="ppaction://hlinksldjump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7" action="ppaction://hlinksldjump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8" action="ppaction://hlinksldjump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9" action="ppaction://hlinksldjump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0" action="ppaction://hlinksldjump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6996600" y="300816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1" action="ppaction://hlinksldjump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2" action="ppaction://hlinksldjump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3" action="ppaction://hlinksldjump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4" action="ppaction://hlinksldjump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5" action="ppaction://hlinksldjump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7072920" y="4684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6" action="ppaction://hlinksldjump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7" action="ppaction://hlinksldjump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8" action="ppaction://hlinksldjump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9" action="ppaction://hlinksldjump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0" action="ppaction://hlinksldjump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7758720" y="29322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1" action="ppaction://hlinksldjump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2" action="ppaction://hlinksldjump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3" action="ppaction://hlinksldjump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4" action="ppaction://hlinksldjump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5" action="ppaction://hlinksldjump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7911360" y="4608360"/>
            <a:ext cx="56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6" action="ppaction://hlinksldjump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7" action="ppaction://hlinksldjump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8" action="ppaction://hlinksldjump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9" action="ppaction://hlinksldjump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58:16Z</dcterms:created>
  <dc:creator>Owner</dc:creator>
  <dc:description/>
  <dc:language>en-US</dc:language>
  <cp:lastModifiedBy>Lenny VerMaas</cp:lastModifiedBy>
  <dcterms:modified xsi:type="dcterms:W3CDTF">2008-10-14T18:30:06Z</dcterms:modified>
  <cp:revision>4</cp:revision>
  <dc:subject/>
  <dc:title>Geometry essential learning skills</dc:title>
</cp:coreProperties>
</file>