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27B-1F05-4D37-81E2-144ECF3A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C5E-230E-4E6B-B384-B15F1975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AE8-FEA1-4756-97A5-EF79924B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436-785A-452E-BC41-FC0F39E1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436-69C6-4FDD-BA1D-B946176E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0EC-E7FF-4DC8-AE18-26CD9399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42C-2FFD-4B06-BAF5-EEF74359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5CA-EAE5-4FB2-9803-7696F845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4CF-69F2-4129-A5B7-97E134FC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E1A-8091-4927-9190-4EB0F2E3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2FD-9A40-4D21-946E-7505F111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C45-E0A0-4B36-B0B8-A752A0DC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2EE4-59CA-4A46-A374-EF76CB1E4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2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6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gr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sential lear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611640" y="2819520"/>
            <a:ext cx="3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535680" y="4495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122148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1221480" y="45720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198324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2059560" y="46483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282168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2821680" y="47242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388836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396468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710600" y="3084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47264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541224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54122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617436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1" action="ppaction://hlinksldjump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2" action="ppaction://hlinksldjump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3" action="ppaction://hlinksldjump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4" action="ppaction://hlinksldjump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5" action="ppaction://hlinksldjump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617436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6" action="ppaction://hlinksldjump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7" action="ppaction://hlinksldjump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8" action="ppaction://hlinksldjump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9" action="ppaction://hlinksldjump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0" action="ppaction://hlinksldjump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1"/>
          <p:cNvSpPr/>
          <p:nvPr/>
        </p:nvSpPr>
        <p:spPr>
          <a:xfrm>
            <a:off x="6996600" y="300816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1" action="ppaction://hlinksldjump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2" action="ppaction://hlinksldjump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3" action="ppaction://hlinksldjump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4" action="ppaction://hlinksldjump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5" action="ppaction://hlinksldjump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7072920" y="4684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6" action="ppaction://hlinksldjump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7" action="ppaction://hlinksldjump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8" action="ppaction://hlinksldjump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9" action="ppaction://hlinksldjump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0" action="ppaction://hlinksldjump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7758720" y="29322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1" action="ppaction://hlinksldjump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2" action="ppaction://hlinksldjump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3" action="ppaction://hlinksldjump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4" action="ppaction://hlinksldjump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5" action="ppaction://hlinksldjump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7911360" y="4608360"/>
            <a:ext cx="56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6" action="ppaction://hlinksldjump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7" action="ppaction://hlinksldjump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8" action="ppaction://hlinksldjump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9" action="ppaction://hlinksldjump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58:16Z</dcterms:created>
  <dc:creator>Owner</dc:creator>
  <dc:description/>
  <dc:language>en-US</dc:language>
  <cp:lastModifiedBy>Lenny VerMaas</cp:lastModifiedBy>
  <dcterms:modified xsi:type="dcterms:W3CDTF">2008-10-14T18:30:06Z</dcterms:modified>
  <cp:revision>4</cp:revision>
  <dc:subject/>
  <dc:title>Geometry essential learning skills</dc:title>
</cp:coreProperties>
</file>